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809-63E0-43F9-8F04-66453CFB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7BB-A244-48EC-A82D-E443A2E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8BF-C2B4-449D-AC2D-8FABDF80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D14-DC89-4ED3-A3D5-1F590EA4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5BD8-82F9-4936-869E-EBE37EB9B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63D38-C812-427C-8FAF-4EB01AC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716A1-E511-4166-ADFF-6534D55A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0791-0077-49F3-851C-8D007D86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2E32-0451-4724-A0A7-9CDFAB8B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92EC7-83F2-4D7A-8BB3-307A074D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6E53F-FCB3-4DCA-8BBD-C0838D0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70E-099D-4819-B7A7-416CC5F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F664-555E-44FC-A6B8-75408402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25EC-41A8-4A35-944E-C9756DA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0DA9-DF7E-42FF-82F2-80E5D4B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FEFD-DA6E-446C-9531-20069DF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7954-1107-456C-A179-9A333C996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12A-BF24-4CDC-93CA-133DE7F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FE5-7755-49A8-95EA-D1B3B6A2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2D3-4778-4E01-BF07-79390583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53-1E98-482D-BBFC-A2C77A9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9B7-E14A-4343-87EC-3678590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5D-1473-4579-8DE0-9EEE3E2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78B-6EB5-4E3A-9077-70ABEFC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n S. Hs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EBD-1188-4248-A7BD-4415F0417BC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89A2-C05C-4972-B3AC-6D047062495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80/20 Princi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</a:rPr>
              <a:t>The Secret of Achieving More with 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商場獲利與生活如意的槓桿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800600"/>
            <a:ext cx="25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n S. H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ember 18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95101-1483-4634-AF75-859322F241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如何運用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法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1143000"/>
            <a:ext cx="2438280" cy="83808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80/20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法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438280"/>
            <a:ext cx="1904760" cy="914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80/20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2438280"/>
            <a:ext cx="1904760" cy="914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80/20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809880"/>
            <a:ext cx="2438640" cy="26672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精確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量化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需要調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提供事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非常有價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809880"/>
            <a:ext cx="2438280" cy="26672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模糊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質化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需要思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提供見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非常有價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19520" y="1600200"/>
            <a:ext cx="9144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1600200"/>
            <a:ext cx="83808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F1D-86F3-43CF-A0E0-E1644040E66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分析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是一種以量化方式，對原因、投入、努力以及結果、產出、報酬等構建一個精確關係的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是一個實證程序，可能導出各種結果，以證明投入與產出間，確有一種不平衡的關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Aft>
                <a:spcPts val="2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用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2480" indent="-28584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改變它所描述的關係，指出造成該關係的關鍵原因，哪些是導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產出的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投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248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改善那表現不佳、只有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產出的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投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A0B-850F-4C6C-8F49-CB173B8E90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思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若應用不當且以線性思考方式進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析，也可以誤導落入錯誤的邏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析看的是某一個時間點的某一情形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而未考慮因時間而造成的改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大部分重要的決策，都不是以分析方式決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思考是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用於日常生活的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非量化應用，要我們找出真正重要的少數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事物，同時忽視不重要的事物，經由訓練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做到見樹又見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A1F-F767-4320-A97C-2080D0BE1D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304920"/>
          <a:ext cx="914400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161960" y="6262560"/>
            <a:ext cx="150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No. Of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040" y="981000"/>
            <a:ext cx="219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% of May Reve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1294920"/>
            <a:ext cx="0" cy="44960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440" y="2657520"/>
            <a:ext cx="1480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venu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% Par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47 P/N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85.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4480" y="4692600"/>
            <a:ext cx="448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nue of the rest 80% parts (188 P/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14.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S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798-9245-4B77-98D5-488117029C6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4AB5B-FBDF-4620-8B25-C523F766AE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商業上的十大運用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419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策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品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降低成本與改善服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銷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1447920"/>
            <a:ext cx="3124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資訊科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決策與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庫存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談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個人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幸福法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78C-837E-40ED-B1FB-E4FE371FBA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策略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一家公司得以成功，是因為它在市場上可以用最少力氣產生最高獲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一家公司若能專注在最能帶來盈餘的市場和顧客區隔上，通常就能大幅提高盈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家公司都可以藉由減少產出和給員工報酬的不平衡來提高盈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4956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你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的努力在哪兒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的搖錢樹在哪兒？產品、顧客、部門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區隔：了解與獲利的關鍵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A43-3C6D-41A9-A4F6-81229A4518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策略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所有的產業裡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利潤是由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產業所賺取的，表列並自問，為何所處產業不能像這些產業一樣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任何一個產業裡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利潤是由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公司所賺取的，如果你不屬於這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那麼什麼是他們正在做，但你沒有做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認知，得自於公司平日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作為，我的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何？是何原因無法做好這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投入最多只產生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利潤給客戶，這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何？為何無法去除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公司利潤來自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客戶，你有沒有這比例不均的現象？如果沒有，你需要做什麼才能得到它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6B6-6730-4879-BF7A-782ECCEF3B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品質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品質革命：自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5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9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間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品質革命是一場應用了統計和行為技術，欲以較低成本來生產較高品質的改革運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統計學家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Edwards Deming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和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5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出版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品質手冊』的電子工程師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Josef Juran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退貨損失總是分布不均，很高比例的品質損失是由一小部份的產品缺失造成的。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eto Chart –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柏拉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D03-F9C1-42E5-A94B-44BCF1E267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</a:t>
            </a:r>
            <a:br>
              <a:rPr sz="4400"/>
            </a:b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降低成本與改善服務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簡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簡單就是美。欲進步就需要單純；單純來自毫不留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經濟規模與市場佔有率非常重要。規模不是問題，複雜才是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找出最有潛力能降低成本的地方，然後把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力氣放在那裡。降低成本可不是件便宜的活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當一項業務在它自己較窄的區隔裡居領導地位時，它所獲得的利潤可以高幾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比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比較各項事實，不要在每一件事上使出同樣的力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所感受到的價值感，很少是有規則的反應。想向前躍進，需要測量並比較，也要知道顧客願意花多少錢買這價值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7AD-D79B-44C9-8B76-E897AA0842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行銷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5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代各處的大企業，全是產品導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6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代重新發現市場的重要性，市場調查與行銷興起，大眾市場已死，取而代之的是</a:t>
            </a:r>
            <a:r>
              <a:rPr b="0" i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市場區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i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區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9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代顧客滿意、以客為先，成為成功企業目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然而追求太多顧客與擴大產品範圍，會急速增加管銷與銷售成本，造成後勤支援的開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應專注『恰當』的市場與顧客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因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BC9-817B-4034-912B-420B8A5E1A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什麼是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法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大部份的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產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</a:t>
            </a:r>
            <a:r>
              <a:rPr b="1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結果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或</a:t>
            </a:r>
            <a:r>
              <a:rPr b="1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酬勞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常是出自一小部份的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投入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</a:t>
            </a:r>
            <a:r>
              <a:rPr b="1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原因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或</a:t>
            </a:r>
            <a:r>
              <a:rPr b="1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努力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所完成的工作裡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成果，來自於你所花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時間。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換句話說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們五分之四的努力，也就是大部份的努力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是與成果無關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以在</a:t>
            </a:r>
            <a:r>
              <a:rPr b="1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原因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1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結果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投入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產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以及</a:t>
            </a:r>
            <a:br>
              <a:rPr sz="3200"/>
            </a:br>
            <a:r>
              <a:rPr b="1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努力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1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報酬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之間，本來就是不平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C11-36BC-4C21-8921-F27C3DA138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行銷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的行銷和整個公司，應該集中精力做出一項產品或服務，使之在現有的產品線中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這一小部份，並會產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利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的行銷和整個公司，都應該在佔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營業額的那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身上，付出極多的力氣來讓他們覺得開心，想辦法永遠留住他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生產與行銷真的沒有衝突</a:t>
            </a:r>
            <a:r>
              <a:rPr b="0" i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惟有你的東西比別處更有價值感，你才會成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創新必是產品導向，你的創新一定是為了生產一樣符合以上條件的產品或服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777-DDEB-458B-9F63-3DE211F232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銷售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守住你的顧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先知道是誰，才談得上以他們為目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供特別或甚至『很炫』的服務給這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針對核心顧客來發展新服務或產品，特別為他們量身打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致力於永遠保住你的核心顧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581280"/>
            <a:ext cx="8458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守住你的頂尖銷售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緊緊守住這些表現良好的人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多僱用一些這一類的銷售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試著找出他們在何種情況下做了何事，賣出最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公司上下都要採行產值最高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一個在某一範圍做得不錯的小組，和另個在另一範圍做得不好的小組交換位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BDF-C023-4B67-B2B5-379E778824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銷售篇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I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集中銷售員的精力於銷售那些產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利潤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產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要每位銷售員專注在能帶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利潤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身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居最前面幾名的顧客，不管區域問題，都交給同一位或同一組銷售人力照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降低銷售成本。對次要顧客只用電話聯絡溝通即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要銷售人員去探視過去曾帶來好生意的老顧客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819-66D8-442A-821F-C2C9D9CDD8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</a:t>
            </a:r>
            <a:br>
              <a:rPr sz="4400"/>
            </a:b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資訊科技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94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發明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RISC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電腦，藉由刪除較無用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指令，讓那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達到最佳化並保持在一個晶片內，藉此省下成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軟體開發者都知道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產品只施展出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能力，所以軟體設計時要讓最常用的功能也是最容易使用的部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效的資訊處理，都應該把重心集中於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或更少的主要需求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自動化的資訊價值正以幾何方式增加，運用資訊威力的關鍵在於選擇那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E09-50DB-4396-9DEE-C4D547BCF6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</a:t>
            </a:r>
            <a:br>
              <a:rPr sz="4400"/>
            </a:b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決策與分析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真正重要的決策並不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最重要的決策多半是由老天決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你能運用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時間理，彙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資料並進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相關分析，然後用百分之百的時間做決定，進行執行，彷彿你對這個決定有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信心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&gt;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/80/100/100</a:t>
            </a: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決策法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果你所做的決定看起來無效，就趁早改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當某事進行順利時，要把賭注加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FC1-5EAC-4401-89DF-A2CF609023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</a:t>
            </a:r>
            <a:br>
              <a:rPr sz="4400"/>
            </a:b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庫存管理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砍掉不賺錢的產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從動得慢的產品開始把它刪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轉嫁庫存到附加價值鏈上的其他環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應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來</a:t>
            </a:r>
            <a:r>
              <a:rPr b="0" i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降低成本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和</a:t>
            </a:r>
            <a:r>
              <a:rPr b="0" i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加速進出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如：快速移動的貨品，應該儘量放置在方便進出的位置，以減少移動的動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E74-5E10-4C42-A9F2-8581C78B82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</a:t>
            </a:r>
            <a:br>
              <a:rPr sz="4400"/>
            </a:b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專案管理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目標單純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力氣是花在解決因複雜而來的問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訂一份不可能達到的時間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身處緊急狀況，往往能激發有創意的解決方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動前先計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所有打算解決的重要問題全寫下來，但不要超過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試著假設答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再判斷假設正確與否，得收集哪些資料、完成哪些過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配誰、何時、做什麼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運用新的心得，重新計劃一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執行前先設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設計時所遇到的問題，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佔去全部成本與支出的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問題產生於設計階段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079-E03E-42D5-BB5D-C4405355162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企業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成功法則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談判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談判中的觀點都不算重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凡人都喜歡在爭論中獲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們對於別人的讓步總是有好的回應，即使是非常微不足到的讓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談判之前，先條列出一長串的關心重點與要求，而且要做得彷彿你非常在意這些問題與要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談判結束時，再在幾個不重要的點上退讓，以換取你真正想得到但其實對對方未盡公平的要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別太早攤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沒有耐性的人，不會是優秀的談判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確保付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5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讓步，是出現在談判過程的最後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時間裡，別太早替你的當事人提出要求，免得答應了對方一個寬鬆的協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34B-81A6-4557-8E25-C6AEA2C6AD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個人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幸福法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你是否也有以下的感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502920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這些生活中的不平衡都可以改善，讓你得到你想要的事物，並且真正感到滿足─── ────────────這才叫</a:t>
            </a:r>
            <a:r>
              <a:rPr b="1" i="1" lang="zh-TW" sz="4000" spc="-1" strike="noStrike">
                <a:solidFill>
                  <a:srgbClr val="66ff66"/>
                </a:solidFill>
                <a:latin typeface="Times New Roman"/>
                <a:ea typeface="標楷體"/>
              </a:rPr>
              <a:t>幸福</a:t>
            </a:r>
            <a:r>
              <a:rPr b="0" i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2193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大部分的時間裡，做的是沒有意思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認識的人當中，多半是泛泛之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工作中大部分的努力，並沒有為自己帶來好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賺得的收入，通常無法留存下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BF3-FF39-4C3B-9201-13149D0789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個人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觀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成就與快樂，只佔掉我們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時間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們的生活，深受若干事情與決定影響，而這少數多非出於有意識的選擇，而是我們任順生活發生，而非出於自己的計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事情的發生總有關鍵因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人能完成重要事物，重點不在於努力與否，而是找出應該在何事上努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人贏，就有人輸，但輸家佔多數，你也可以是贏家，如果讓機會對自己有利，當你能選擇要參加什麼競賽，勝算就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7043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們失敗，大多發生在參加別人要我們參加的競賽：我們的成功，大部分出現於我們自己想參與競賽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752-B4F2-4009-BAF6-88CD1F4A03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法則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71800" y="1295280"/>
            <a:ext cx="3124080" cy="1831320"/>
            <a:chOff x="2971800" y="1295280"/>
            <a:chExt cx="3124080" cy="1831320"/>
          </a:xfrm>
        </p:grpSpPr>
        <p:grpSp>
          <p:nvGrpSpPr>
            <p:cNvPr id="152" name=""/>
            <p:cNvGrpSpPr/>
            <p:nvPr/>
          </p:nvGrpSpPr>
          <p:grpSpPr>
            <a:xfrm>
              <a:off x="2971800" y="1295280"/>
              <a:ext cx="914400" cy="1828800"/>
              <a:chOff x="2971800" y="1295280"/>
              <a:chExt cx="914400" cy="1828800"/>
            </a:xfrm>
          </p:grpSpPr>
          <p:sp>
            <p:nvSpPr>
              <p:cNvPr id="153" name=""/>
              <p:cNvSpPr/>
              <p:nvPr/>
            </p:nvSpPr>
            <p:spPr>
              <a:xfrm>
                <a:off x="2971800" y="2743200"/>
                <a:ext cx="914400" cy="38088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71800" y="1295280"/>
                <a:ext cx="91440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181480" y="1295280"/>
              <a:ext cx="914400" cy="1828800"/>
              <a:chOff x="5181480" y="1295280"/>
              <a:chExt cx="914400" cy="18288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81480" y="1676160"/>
                <a:ext cx="914400" cy="144792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81480" y="129528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171600" y="2666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ffff"/>
                  </a:solidFill>
                  <a:latin typeface="Times New Roman"/>
                  <a:ea typeface="標楷體"/>
                </a:rPr>
                <a:t>投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1280" y="2209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ff"/>
                  </a:solidFill>
                  <a:latin typeface="Times New Roman"/>
                  <a:ea typeface="標楷體"/>
                </a:rPr>
                <a:t>產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962520" y="1752480"/>
              <a:ext cx="1143000" cy="9907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676520" y="4343400"/>
            <a:ext cx="5715000" cy="2209320"/>
            <a:chOff x="1676520" y="4343400"/>
            <a:chExt cx="5715000" cy="2209320"/>
          </a:xfrm>
        </p:grpSpPr>
        <p:grpSp>
          <p:nvGrpSpPr>
            <p:cNvPr id="162" name=""/>
            <p:cNvGrpSpPr/>
            <p:nvPr/>
          </p:nvGrpSpPr>
          <p:grpSpPr>
            <a:xfrm>
              <a:off x="1676520" y="4343400"/>
              <a:ext cx="5715000" cy="2209320"/>
              <a:chOff x="1676520" y="4343400"/>
              <a:chExt cx="5715000" cy="2209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6520" y="4343400"/>
                <a:ext cx="2210040" cy="213336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81840" y="4419360"/>
                <a:ext cx="2209680" cy="2133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3502200">
                <a:off x="3047760" y="495252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0" y="672"/>
                    </a:lnTo>
                    <a:lnTo>
                      <a:pt x="576" y="336"/>
                    </a:lnTo>
                    <a:lnTo>
                      <a:pt x="480" y="192"/>
                    </a:lnTo>
                    <a:lnTo>
                      <a:pt x="336" y="96"/>
                    </a:lnTo>
                    <a:lnTo>
                      <a:pt x="24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24840" y="4419360"/>
                <a:ext cx="914400" cy="106632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0" y="672"/>
                    </a:lnTo>
                    <a:lnTo>
                      <a:pt x="576" y="336"/>
                    </a:lnTo>
                    <a:lnTo>
                      <a:pt x="480" y="192"/>
                    </a:lnTo>
                    <a:lnTo>
                      <a:pt x="336" y="96"/>
                    </a:lnTo>
                    <a:lnTo>
                      <a:pt x="24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62520" y="5410080"/>
                <a:ext cx="11430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95280" y="510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  <a:ea typeface="標楷體"/>
                </a:rPr>
                <a:t>原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7600" y="5181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  <a:ea typeface="標楷體"/>
                </a:rPr>
                <a:t>結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87240" y="3276720"/>
            <a:ext cx="4090320" cy="916920"/>
            <a:chOff x="2487240" y="3276720"/>
            <a:chExt cx="4090320" cy="916920"/>
          </a:xfrm>
        </p:grpSpPr>
        <p:sp>
          <p:nvSpPr>
            <p:cNvPr id="171" name=""/>
            <p:cNvSpPr/>
            <p:nvPr/>
          </p:nvSpPr>
          <p:spPr>
            <a:xfrm>
              <a:off x="2487240" y="32767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TW" sz="5400" spc="-1" strike="noStrike">
                  <a:solidFill>
                    <a:srgbClr val="66ff33"/>
                  </a:solidFill>
                  <a:latin typeface="Times New Roman"/>
                  <a:ea typeface="標楷體"/>
                </a:rPr>
                <a:t>努力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0240" y="3581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TW" sz="2800" spc="-1" strike="noStrike">
                  <a:solidFill>
                    <a:srgbClr val="66ff33"/>
                  </a:solidFill>
                  <a:latin typeface="Times New Roman"/>
                  <a:ea typeface="標楷體"/>
                </a:rPr>
                <a:t>報酬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1120" y="3581640"/>
              <a:ext cx="1752480" cy="533160"/>
            </a:xfrm>
            <a:prstGeom prst="rightArrow">
              <a:avLst>
                <a:gd name="adj1" fmla="val 50000"/>
                <a:gd name="adj2" fmla="val 82174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B94-5137-4756-9338-748E71EDE4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個人的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80/20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觀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很少人嚴肅看待自己的目標。能夠有成就的人，懂得挑選，也有決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大多數人，把時間花在低價值的活動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生命中，最重要的決定在選擇盟友，以達目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果金錢使用得當，它會是改變生活方式的資源，並增加快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金錢不是快樂，快樂也不是金錢。鮮少有人花足夠的時間，來尋找屬於自己的快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沒有花掉的金錢可以存起來，今天沒有用完的快樂，卻無法留待明天在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E07-7D7F-4950-8E87-761EA7DE08B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時間真的不夠用嗎？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你最有生產力的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%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時間，是不是創造出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80%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的價值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你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80%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的快樂，來自生命中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%</a:t>
            </a:r>
            <a:r>
              <a:rPr b="1" i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的時間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2767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們目前對時間的使用並不合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時間不會不夠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時間當朋友。我們自己運用時間的方式才是敵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8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應該減少行動，因為我們一行動就不思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424-3505-48D5-993D-D47C959A26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十大無效時間運用法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別人希望你做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老是以同樣方式完成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不擅長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做時無樂趣可言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總是被打斷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別人也不感興趣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你所料已經花了兩倍時間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合作者不可信賴或沒有品質保障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可預期進行過程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接電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D6B-1AA5-4BC1-BDAE-35557817573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七個引爆時間革命的步驟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努力不等於報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拋開罪惡感。做自己喜歡做的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那是別人硬加給你的義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以獨特的方法使用時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找出那百分之二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讓那百分之二十的時間增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20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除掉或減少低價值活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F47-9C02-44AF-9A13-B5C3A510177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十大超值時間運用法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昇生命大目標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一直想做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/8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時間對結果的關係之中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能大大節省時間並使品質倍增的創新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別人說你不可能完成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別人已在其他領域進行且獲得成功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運用自己創造力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能獲得別人為你工作而減少你工作量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超越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式，以獨特方式運用時間的高品質合作者配合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千載難逢、稍縱即逝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1C1-5637-4424-887E-79AE7BD3600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投資十誡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讓你的投資哲學反映你的個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隨機應變，不要分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主要投資在股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做長期投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股市低迷時，投資最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掌握不住股市時，追蹤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投資在你專精的領域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可投資於新興市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不賺錢的投資剔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Aft>
                <a:spcPts val="601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賺得的錢要經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236-A75E-400A-9E5F-2A2D298586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結論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獎勵特殊表現，而非讚美全面平均的努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尋求捷徑，而非全程參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練習運用最少的努力去控制生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選擇性尋找而非鉅細靡遺的觀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幾件事上追求卓越，不必事事都求有好表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日常生活中，找人做事而非事必親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小心選擇事業和雇主，如果可能就自己當老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只做我們最能勝任、且最能從中得到樂趣的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平靜、少做一些，鎖定少數能以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完成的目標，不必汲汲追求所有機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當我們處於創造力顛峰、幸運女神眷顧的時候，務必擅用這少有的『幸運時刻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A63-50B7-4967-88F9-79240A26ABD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結論 </a:t>
            </a: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- I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善用槓桿原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關鍵少數給你的好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某些東西就是比較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低價值物變成高價值運用才叫進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少數的人，增加大多數的價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高獲利的活動，總是只佔企業全部活動的一小部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務必把關鍵少數擺在大腦正前方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時時檢討自己，是否把較多時間和努力放在關鍵少數，而不是浪費在無用多數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441-AEA5-4B65-BFD9-8A83D1578CE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存在以快樂為目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種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找出你最快樂的時間然後盡量增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找出你最不快樂的時間然後盡量減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七大習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運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用大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靈性或藝術性的沉思與刺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日行一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抽一小段時間與一位朋友小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款待自己一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Aft>
                <a:spcPts val="349"/>
              </a:spcAft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向自己道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393-C60B-45F4-AB01-F37DDA2F8E2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快樂生活的七條捷徑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把你能控制的範圍擴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設定可達成目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彈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伴侶的感情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擁有幾位快樂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擁有幾位親近的工作盟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展開你的理想生活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5CB-A9E7-4BA6-8F86-73C66DF4EE9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事實勝於雄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產品或客戶，涵蓋了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營業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罪犯，佔了所有罪行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駕駛人，引起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交通事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孩子，達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教育水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地毯面積，有著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磨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時間裡，你穿的是你所有衣服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A45-9EB2-44FC-AB8C-A007431020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測驗題目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2200"/>
              </a:spcAft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寫下三個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的運用實例與對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寫下一個你可以嘗試在工作或日常生活 中運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的案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2EB-D500-4D66-8BB7-6B90728D4EE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有系統又可預測的不平衡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義大利經濟學者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Vilfredo Pareto, 1848-192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524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897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他發現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1320" indent="-384120">
              <a:lnSpc>
                <a:spcPct val="90000"/>
              </a:lnSpc>
              <a:spcAft>
                <a:spcPts val="524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大部份的所得和財富，流向少數人手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1320" indent="-384120">
              <a:lnSpc>
                <a:spcPct val="90000"/>
              </a:lnSpc>
              <a:spcAft>
                <a:spcPts val="14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某一族群佔總人數的百分比和該人口群所享有的總收入或財富之間，有一項一致的數學關係。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換句話說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得最高的族群與他們所得的總額之間，有一個不變的關係。這是一個規律的對數模式，而且在不同時間所取得的資料，所畫出的分佈圖都有相似形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又稱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: “</a:t>
            </a:r>
            <a:r>
              <a:rPr b="0" i="1" lang="zh-TW" sz="2800" spc="-1" strike="noStrike">
                <a:solidFill>
                  <a:srgbClr val="ffff00"/>
                </a:solidFill>
                <a:latin typeface="Times New Roman"/>
                <a:ea typeface=""/>
              </a:rPr>
              <a:t>Pareto Principle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, “</a:t>
            </a:r>
            <a:r>
              <a:rPr b="0" i="1" lang="zh-TW" sz="2800" spc="-1" strike="noStrike">
                <a:solidFill>
                  <a:srgbClr val="ffff00"/>
                </a:solidFill>
                <a:latin typeface=""/>
                <a:ea typeface=""/>
              </a:rPr>
              <a:t>Pareto Law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, “</a:t>
            </a:r>
            <a:r>
              <a:rPr b="0" i="1" lang="zh-TW" sz="2800" spc="-1" strike="noStrike">
                <a:solidFill>
                  <a:srgbClr val="ffff00"/>
                </a:solidFill>
                <a:latin typeface=""/>
                <a:ea typeface=""/>
              </a:rPr>
              <a:t>Principle of Lease Effort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, “</a:t>
            </a:r>
            <a:r>
              <a:rPr b="0" i="1" lang="zh-TW" sz="2800" spc="-1" strike="noStrike">
                <a:solidFill>
                  <a:srgbClr val="ffff00"/>
                </a:solidFill>
                <a:latin typeface=""/>
                <a:ea typeface=""/>
              </a:rPr>
              <a:t>Principle of Imbalance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01D-8989-44B2-BB57-3A85A95BE9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可預測的事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52680" y="1066680"/>
            <a:ext cx="2971800" cy="2819520"/>
            <a:chOff x="3352680" y="1066680"/>
            <a:chExt cx="2971800" cy="2819520"/>
          </a:xfrm>
        </p:grpSpPr>
        <p:sp>
          <p:nvSpPr>
            <p:cNvPr id="180" name=""/>
            <p:cNvSpPr/>
            <p:nvPr/>
          </p:nvSpPr>
          <p:spPr>
            <a:xfrm>
              <a:off x="3352680" y="1066680"/>
              <a:ext cx="2971800" cy="2819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1219320"/>
              <a:ext cx="266688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3720" y="1676520"/>
              <a:ext cx="2277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r>
                <a:rPr b="1" lang="zh-TW" sz="4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人口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80%</a:t>
              </a:r>
              <a:r>
                <a:rPr b="1" lang="zh-TW" sz="4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財富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43000" y="3581280"/>
            <a:ext cx="2971800" cy="2819520"/>
            <a:chOff x="1143000" y="3581280"/>
            <a:chExt cx="2971800" cy="2819520"/>
          </a:xfrm>
        </p:grpSpPr>
        <p:sp>
          <p:nvSpPr>
            <p:cNvPr id="184" name=""/>
            <p:cNvSpPr/>
            <p:nvPr/>
          </p:nvSpPr>
          <p:spPr>
            <a:xfrm>
              <a:off x="1143000" y="3581280"/>
              <a:ext cx="2971800" cy="2819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920" y="3886200"/>
              <a:ext cx="2361960" cy="220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r>
                <a:rPr b="1" lang="zh-TW" sz="40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人口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ffff"/>
                  </a:solidFill>
                  <a:latin typeface="Times New Roman"/>
                </a:rPr>
                <a:t>65%</a:t>
              </a:r>
              <a:r>
                <a:rPr b="1" lang="zh-TW" sz="40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財富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638680" y="3581280"/>
            <a:ext cx="2971800" cy="2819160"/>
            <a:chOff x="5638680" y="3581280"/>
            <a:chExt cx="2971800" cy="2819160"/>
          </a:xfrm>
        </p:grpSpPr>
        <p:sp>
          <p:nvSpPr>
            <p:cNvPr id="187" name=""/>
            <p:cNvSpPr/>
            <p:nvPr/>
          </p:nvSpPr>
          <p:spPr>
            <a:xfrm>
              <a:off x="5638680" y="3581280"/>
              <a:ext cx="2971800" cy="2819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5880" y="4038480"/>
              <a:ext cx="2057400" cy="19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Times New Roman"/>
                </a:rPr>
                <a:t>5%</a:t>
              </a:r>
              <a:r>
                <a:rPr b="1" lang="zh-TW" sz="3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人口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r>
                <a:rPr b="1" lang="zh-TW" sz="3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財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75F-D601-43F3-94A7-63E7150BF2B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先驅應用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49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哈佛的語言教授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- George K. Zipf -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最省力法則 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- </a:t>
            </a:r>
            <a:r>
              <a:rPr b="0" i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Principle of Lease Effort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：</a:t>
            </a:r>
            <a:br>
              <a:rPr sz="3200"/>
            </a:b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資源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、物資、時間、技能、或任何有生產力的東西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總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會自我調整，以求將工作量減少，而大約百分之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至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3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資源，與百分之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7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至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資源活動有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析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31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費城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街區內所發出的結婚證書，發現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70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婚姻，產生於該區中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0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人身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80988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51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羅馬尼亞裔的美國工程師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- Josef M. Juran -  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他正是近代品質革命的幕後功臣，提出“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關鍵少數規則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或是“</a:t>
            </a:r>
            <a:r>
              <a:rPr b="0" i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Pareto Principle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eto’s Imbalance Principle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除能解釋財富分配的不均外，對所觀察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到的品質缺失與品質不良的分布，也得到相同的結果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6019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963 IBM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發現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執行時間是花在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指令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912-3BB1-46F6-9F93-B18D9C6000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你的直覺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的原因大致上是一樣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顧客一樣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生意、每種產品、每分利潤都一樣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某範圍的所有員工大致有等同價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們過的每天、每星期都同樣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朋友對我們一樣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諮詢或電話都應一視同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有問題都有一大堆原因，不值得找出其中少數的關鍵原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D19-5B2A-4373-8EC4-E1E1E7CB48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ff"/>
                </a:solidFill>
                <a:latin typeface="Times New Roman"/>
                <a:ea typeface="標楷體"/>
              </a:rPr>
              <a:t>好消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/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則是反直覺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證明到處是大量的浪費，不論是在自然界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商業界、在社會中、以及自己的生活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多數，只能造成少許影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少數，卻造成主要及重大的影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產出或報酬是由少數的原因、投入和努力所產生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原因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i="1" lang="zh-TW" sz="32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結果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</a:t>
            </a:r>
            <a:r>
              <a:rPr b="0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投入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i="1" lang="zh-TW" sz="3200" spc="-1" strike="noStrike" u="sng">
                <a:solidFill>
                  <a:srgbClr val="00ffff"/>
                </a:solidFill>
                <a:uFillTx/>
                <a:latin typeface="Times New Roman"/>
                <a:ea typeface="標楷體"/>
              </a:rPr>
              <a:t>產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、或</a:t>
            </a:r>
            <a:r>
              <a:rPr b="0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努力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i="1" lang="zh-TW" sz="3200" spc="-1" strike="noStrike" u="sng">
                <a:solidFill>
                  <a:srgbClr val="66ff33"/>
                </a:solidFill>
                <a:uFillTx/>
                <a:latin typeface="Times New Roman"/>
                <a:ea typeface="標楷體"/>
              </a:rPr>
              <a:t>報酬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之間的關係，往往是不平衡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290-AB34-48A5-9772-B91B3A0C37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8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6T11:11:34Z</dcterms:created>
  <dc:creator>user</dc:creator>
  <dc:description/>
  <dc:language>en-US</dc:language>
  <cp:lastModifiedBy>Jellent</cp:lastModifiedBy>
  <dcterms:modified xsi:type="dcterms:W3CDTF">2002-11-16T17:58:40Z</dcterms:modified>
  <cp:revision>13</cp:revision>
  <dc:subject/>
  <dc:title>The 80/20 Principle</dc:title>
</cp:coreProperties>
</file>