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71E-9C27-4E7F-A3F3-E78B161E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2BA-CED0-456B-B3E9-6308D1F2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B48-62D1-43E1-AC5C-5A655051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CF3-7E36-4505-9638-E156D39C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B05-C157-4965-9988-746FBE5F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EDC-C125-461E-95E8-9CAFBCF9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1A9-AC2E-4ECC-B2F8-5118E721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7C8-4C5A-4E5C-9508-4B454ABC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6A6-324A-4223-B9BE-444FB7F7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39D-9C4E-4AE1-AA6D-07F5C2AF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F68-BA0B-4676-BABE-D279E843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9E2-4AF5-4EF9-93F8-9BD85592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9C29-4DD7-4C59-9044-680C3DA4891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83664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判斷式與迴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708280"/>
            <a:ext cx="52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判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迴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042920" y="981000"/>
            <a:ext cx="6841800" cy="4319280"/>
            <a:chOff x="1042920" y="981000"/>
            <a:chExt cx="6841800" cy="4319280"/>
          </a:xfrm>
        </p:grpSpPr>
        <p:sp>
          <p:nvSpPr>
            <p:cNvPr id="141" name=""/>
            <p:cNvSpPr/>
            <p:nvPr/>
          </p:nvSpPr>
          <p:spPr>
            <a:xfrm>
              <a:off x="1042920" y="1451880"/>
              <a:ext cx="6841800" cy="38484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在此有個很重要的技巧要提醒各位，當我們使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判斷式時，一定要記得進行「縮排」的動作，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謂的縮排，就是將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或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的內容往右縮減一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Tab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的距離，如此閱讀程式時，才會清楚知道哪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項工具是由哪一個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或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所負責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42920" y="981000"/>
              <a:ext cx="2336760" cy="470520"/>
              <a:chOff x="1042920" y="981000"/>
              <a:chExt cx="2336760" cy="470520"/>
            </a:xfrm>
          </p:grpSpPr>
          <p:sp>
            <p:nvSpPr>
              <p:cNvPr id="143" name=""/>
              <p:cNvSpPr/>
              <p:nvPr/>
            </p:nvSpPr>
            <p:spPr>
              <a:xfrm>
                <a:off x="1042920" y="981000"/>
                <a:ext cx="1807920" cy="470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28520" y="981000"/>
                <a:ext cx="551160" cy="47052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6920" y="1157400"/>
            <a:ext cx="734544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判斷式中加入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的格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f(condition_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do thing_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lse if(condition_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do thing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do thing_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56360" y="4365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920" y="549360"/>
            <a:ext cx="2665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加入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else if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做判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6920" y="1157400"/>
            <a:ext cx="7345440" cy="478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其格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switch(Status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ase Value_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o do thing_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ase Value_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o do thing_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ase Value_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o do thing_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o do default th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156360" y="4365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6920" y="549360"/>
            <a:ext cx="3457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switch…cas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的應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26920" y="115740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程式語法中提供了所謂的「邏輯運算子」，可以讓我們很簡潔的完成多重的條件判斷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49360"/>
            <a:ext cx="2016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邏輯運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00000" y="2565360"/>
          <a:ext cx="7344000" cy="2190960"/>
        </p:xfrm>
        <a:graphic>
          <a:graphicData uri="http://schemas.openxmlformats.org/drawingml/2006/table">
            <a:tbl>
              <a:tblPr/>
              <a:tblGrid>
                <a:gridCol w="741240"/>
                <a:gridCol w="741240"/>
                <a:gridCol w="2104920"/>
                <a:gridCol w="375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符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名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&amp;&amp;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跟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都同時成立的話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|| 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跟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任何一個成立的話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!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條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成立的話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516720" y="43657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42920" y="981000"/>
            <a:ext cx="6841800" cy="3816000"/>
            <a:chOff x="1042920" y="981000"/>
            <a:chExt cx="6841800" cy="3816000"/>
          </a:xfrm>
        </p:grpSpPr>
        <p:sp>
          <p:nvSpPr>
            <p:cNvPr id="157" name=""/>
            <p:cNvSpPr/>
            <p:nvPr/>
          </p:nvSpPr>
          <p:spPr>
            <a:xfrm>
              <a:off x="1042920" y="1397160"/>
              <a:ext cx="6841800" cy="339984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邏輯運算子與關係運算子，每個運算子都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其優先順序，所以在程式寫作過程中，我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必須特別注意每個運算子究竟誰會被先執行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中圓括號運算子（）的優先順序比這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運算子都來得高，當您不確定哪一個運算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的優先順序比較高時，把要優先執行的運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子依序用圓括號運算子括起來就不會錯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042920" y="981000"/>
              <a:ext cx="2336760" cy="416160"/>
              <a:chOff x="1042920" y="981000"/>
              <a:chExt cx="2336760" cy="416160"/>
            </a:xfrm>
          </p:grpSpPr>
          <p:sp>
            <p:nvSpPr>
              <p:cNvPr id="159" name=""/>
              <p:cNvSpPr/>
              <p:nvPr/>
            </p:nvSpPr>
            <p:spPr>
              <a:xfrm>
                <a:off x="1042920" y="981000"/>
                <a:ext cx="1807920" cy="4161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28520" y="981000"/>
                <a:ext cx="551160" cy="41616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3-2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迴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2349360"/>
            <a:ext cx="52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2-1 fo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迴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2-2 fo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迴圈的彈性與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2-3 whil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迴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2-4 do whil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迴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2-5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階層狀迴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26920" y="1285920"/>
            <a:ext cx="734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迴圈，其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for(Initial_Value;Stop_Conditio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tep_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o do somet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換成中文的說法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for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從第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位同學開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到第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位為止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算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位同學就換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同學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計算每位同學的平均成績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156360" y="37180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549360"/>
            <a:ext cx="1657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迴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26920" y="1285920"/>
            <a:ext cx="734544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立時，迴圈就會不斷執行直到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不成立為止，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while(Con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o do somet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用中文的說法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平均成績小於或等於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分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計算每位同學的平均成績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156360" y="37180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26920" y="549360"/>
            <a:ext cx="1657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迴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1052640"/>
            <a:ext cx="73454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o whil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o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o do somet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}while(Condition);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它的運作方式是：只要遇到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時，程式無論如何都會去執行迴圈所要進行的工作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次，然後才進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圓括號裡的執行條件判斷，此時如果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立的話就繼續進行下一輪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迴圈的工作，否則就終止整個迴圈的運作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549360"/>
            <a:ext cx="2449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do whil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迴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6920" y="1052640"/>
            <a:ext cx="7345440" cy="295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階層狀迴圈的格式如下所示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我們以兩層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迴圈為例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for(Initial_Value_A;Stop_Condition_A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tep_Value_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for(Initial_Value_B;Stop_Condition_B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tep_Value_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do someth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6360" y="4005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26920" y="549360"/>
            <a:ext cx="2449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階層狀迴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3-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判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060640"/>
            <a:ext cx="5256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來做判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1-2 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關係運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1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配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來做判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1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複合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1-5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階層狀判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1-6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加入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else-if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做判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1-7 switch…cas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-1-8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邏輯運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765000"/>
            <a:ext cx="7777080" cy="167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我們日常生活中常會用「如果我…的話，我就…」來判斷我要不要做某件事，例如：「如果我有三百元的話，我就去看一場電影」，在這裡，“有三百元”是我判斷要不要去看電影的條件，如果我真的有三百元的話，我才會去做“去看一場電影”這一件事，否則我就打消這個念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現在換到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C++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的語言環境中，當程式判斷要不要做某件事的時候，我們採用的是「判斷式」。所謂的判斷式包括：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if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、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if…else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、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else if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、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switch…case</a:t>
            </a:r>
            <a:r>
              <a:rPr b="1" lang="zh-TW" sz="2600" spc="-1" strike="noStrike">
                <a:solidFill>
                  <a:srgbClr val="003300"/>
                </a:solidFill>
                <a:latin typeface="新細明體"/>
              </a:rPr>
              <a:t>等等 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628640"/>
            <a:ext cx="734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f(con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o do somet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現在我們套用上面的例子並且換成中文的說法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我有三百元的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我就去看一場電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來做判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1052640"/>
            <a:ext cx="7345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在數學的表示方式裡，我們採用「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=…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」等符號來比較兩個數值的大小，到了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的環境底下，我們有一套類似的符號用來進行兩個數值的比較，我們稱之為「關係運算子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係運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00000" y="2494080"/>
            <a:ext cx="7272000" cy="3240000"/>
            <a:chOff x="900000" y="2494080"/>
            <a:chExt cx="7272000" cy="3240000"/>
          </a:xfrm>
        </p:grpSpPr>
        <p:grpSp>
          <p:nvGrpSpPr>
            <p:cNvPr id="53" name=""/>
            <p:cNvGrpSpPr/>
            <p:nvPr/>
          </p:nvGrpSpPr>
          <p:grpSpPr>
            <a:xfrm>
              <a:off x="905040" y="2497320"/>
              <a:ext cx="7260480" cy="3232800"/>
              <a:chOff x="905040" y="2497320"/>
              <a:chExt cx="7260480" cy="32328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905040" y="2497320"/>
                <a:ext cx="971640" cy="461520"/>
                <a:chOff x="905040" y="2497320"/>
                <a:chExt cx="971640" cy="461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905040" y="2497320"/>
                  <a:ext cx="971640" cy="4615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" name=""/>
                <p:cNvGrpSpPr/>
                <p:nvPr/>
              </p:nvGrpSpPr>
              <p:grpSpPr>
                <a:xfrm>
                  <a:off x="905040" y="2497320"/>
                  <a:ext cx="971280" cy="461520"/>
                  <a:chOff x="905040" y="2497320"/>
                  <a:chExt cx="971280" cy="46152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>
                    <a:off x="924840" y="2497320"/>
                    <a:ext cx="932040" cy="4615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18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符號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905040" y="2497320"/>
                    <a:ext cx="971280" cy="461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1877040" y="2497320"/>
                <a:ext cx="2048040" cy="461520"/>
                <a:chOff x="1877040" y="2497320"/>
                <a:chExt cx="2048040" cy="461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877040" y="2497320"/>
                  <a:ext cx="2048040" cy="4615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" name=""/>
                <p:cNvGrpSpPr/>
                <p:nvPr/>
              </p:nvGrpSpPr>
              <p:grpSpPr>
                <a:xfrm>
                  <a:off x="1877040" y="2497320"/>
                  <a:ext cx="2047680" cy="461520"/>
                  <a:chOff x="1877040" y="2497320"/>
                  <a:chExt cx="2047680" cy="46152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1896840" y="2497320"/>
                    <a:ext cx="2008440" cy="4615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18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用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877040" y="2497320"/>
                    <a:ext cx="2047680" cy="461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" name=""/>
              <p:cNvGrpSpPr/>
              <p:nvPr/>
            </p:nvGrpSpPr>
            <p:grpSpPr>
              <a:xfrm>
                <a:off x="3925800" y="2497320"/>
                <a:ext cx="4239720" cy="461520"/>
                <a:chOff x="3925800" y="2497320"/>
                <a:chExt cx="4239720" cy="461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925800" y="2497320"/>
                  <a:ext cx="4239720" cy="4615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" name=""/>
                <p:cNvGrpSpPr/>
                <p:nvPr/>
              </p:nvGrpSpPr>
              <p:grpSpPr>
                <a:xfrm>
                  <a:off x="3925800" y="2497320"/>
                  <a:ext cx="4239360" cy="461520"/>
                  <a:chOff x="3925800" y="2497320"/>
                  <a:chExt cx="4239360" cy="4615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3945600" y="2497320"/>
                    <a:ext cx="4200120" cy="4615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18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說明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925800" y="2497320"/>
                    <a:ext cx="4239360" cy="461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" name=""/>
              <p:cNvGrpSpPr/>
              <p:nvPr/>
            </p:nvGrpSpPr>
            <p:grpSpPr>
              <a:xfrm>
                <a:off x="905040" y="2958840"/>
                <a:ext cx="971640" cy="461520"/>
                <a:chOff x="905040" y="2958840"/>
                <a:chExt cx="971640" cy="4615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924840" y="2958840"/>
                  <a:ext cx="9324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905040" y="2958840"/>
                  <a:ext cx="9716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877040" y="2958840"/>
                <a:ext cx="2048040" cy="461520"/>
                <a:chOff x="1877040" y="2958840"/>
                <a:chExt cx="2048040" cy="4615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896840" y="2958840"/>
                  <a:ext cx="20088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if(A&gt;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877040" y="2958840"/>
                  <a:ext cx="20480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925800" y="2958840"/>
                <a:ext cx="4239720" cy="461520"/>
                <a:chOff x="3925800" y="2958840"/>
                <a:chExt cx="4239720" cy="4615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945600" y="2958840"/>
                  <a:ext cx="420048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如果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A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大於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B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的話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25800" y="2958840"/>
                  <a:ext cx="423972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905040" y="3420720"/>
                <a:ext cx="971640" cy="461520"/>
                <a:chOff x="905040" y="3420720"/>
                <a:chExt cx="971640" cy="4615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924840" y="3420720"/>
                  <a:ext cx="9324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&lt;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905040" y="3420720"/>
                  <a:ext cx="9716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877040" y="3420720"/>
                <a:ext cx="2048040" cy="461520"/>
                <a:chOff x="1877040" y="3420720"/>
                <a:chExt cx="2048040" cy="4615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896840" y="3420720"/>
                  <a:ext cx="20088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if(A&lt;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877040" y="3420720"/>
                  <a:ext cx="20480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925800" y="3420720"/>
                <a:ext cx="4239720" cy="461520"/>
                <a:chOff x="3925800" y="3420720"/>
                <a:chExt cx="4239720" cy="4615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945600" y="3420720"/>
                  <a:ext cx="420048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如果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A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小於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B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的話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925800" y="3420720"/>
                  <a:ext cx="423972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905040" y="3882600"/>
                <a:ext cx="971640" cy="461520"/>
                <a:chOff x="905040" y="3882600"/>
                <a:chExt cx="971640" cy="4615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924840" y="3882600"/>
                  <a:ext cx="9324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&gt;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905040" y="3882600"/>
                  <a:ext cx="9716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877040" y="3882600"/>
                <a:ext cx="2048040" cy="461520"/>
                <a:chOff x="1877040" y="3882600"/>
                <a:chExt cx="2048040" cy="4615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896840" y="3882600"/>
                  <a:ext cx="20088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if(A&gt;=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877040" y="3882600"/>
                  <a:ext cx="20480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925800" y="3882600"/>
                <a:ext cx="4239720" cy="461520"/>
                <a:chOff x="3925800" y="3882600"/>
                <a:chExt cx="4239720" cy="4615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945600" y="3882600"/>
                  <a:ext cx="420048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如果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A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大於等於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B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的話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925800" y="3882600"/>
                  <a:ext cx="423972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905040" y="4344480"/>
                <a:ext cx="971640" cy="461880"/>
                <a:chOff x="905040" y="4344480"/>
                <a:chExt cx="971640" cy="461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924840" y="4344480"/>
                  <a:ext cx="93240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&lt;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905040" y="4344480"/>
                  <a:ext cx="971640" cy="46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877040" y="4344480"/>
                <a:ext cx="2048040" cy="461880"/>
                <a:chOff x="1877040" y="4344480"/>
                <a:chExt cx="2048040" cy="4618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896840" y="4344480"/>
                  <a:ext cx="200880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if(A&lt;=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877040" y="4344480"/>
                  <a:ext cx="2048040" cy="46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925800" y="4344480"/>
                <a:ext cx="4239720" cy="461880"/>
                <a:chOff x="3925800" y="4344480"/>
                <a:chExt cx="4239720" cy="4618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945600" y="4344480"/>
                  <a:ext cx="420048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如果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A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小於等於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B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的話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925800" y="4344480"/>
                  <a:ext cx="4239720" cy="46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905040" y="4806720"/>
                <a:ext cx="971640" cy="461520"/>
                <a:chOff x="905040" y="4806720"/>
                <a:chExt cx="971640" cy="4615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924840" y="4806720"/>
                  <a:ext cx="9324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=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905040" y="4806720"/>
                  <a:ext cx="9716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877040" y="4806720"/>
                <a:ext cx="2048040" cy="461520"/>
                <a:chOff x="1877040" y="4806720"/>
                <a:chExt cx="2048040" cy="4615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896840" y="4806720"/>
                  <a:ext cx="20088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if(A==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877040" y="4806720"/>
                  <a:ext cx="20480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925800" y="4806720"/>
                <a:ext cx="4239720" cy="461520"/>
                <a:chOff x="3925800" y="4806720"/>
                <a:chExt cx="4239720" cy="4615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945600" y="4806720"/>
                  <a:ext cx="420048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如果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A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等於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B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的話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925800" y="4806720"/>
                  <a:ext cx="423972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905040" y="5268600"/>
                <a:ext cx="971640" cy="461520"/>
                <a:chOff x="905040" y="5268600"/>
                <a:chExt cx="971640" cy="4615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924840" y="5268600"/>
                  <a:ext cx="9324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!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05040" y="5268600"/>
                  <a:ext cx="9716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877040" y="5268600"/>
                <a:ext cx="2048040" cy="461520"/>
                <a:chOff x="1877040" y="5268600"/>
                <a:chExt cx="2048040" cy="4615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896840" y="5268600"/>
                  <a:ext cx="200880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</a:rPr>
                    <a:t>if(A!=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77040" y="5268600"/>
                  <a:ext cx="204804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925800" y="5268600"/>
                <a:ext cx="4239720" cy="461520"/>
                <a:chOff x="3925800" y="5268600"/>
                <a:chExt cx="4239720" cy="4615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945600" y="5268600"/>
                  <a:ext cx="4200480" cy="4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如果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A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不等於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B</a:t>
                  </a:r>
                  <a:r>
                    <a:rPr b="1" lang="zh-TW" sz="1800" spc="-1" strike="noStrike">
                      <a:solidFill>
                        <a:srgbClr val="003300"/>
                      </a:solidFill>
                      <a:latin typeface="Times New Roman"/>
                    </a:rPr>
                    <a:t>的話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925800" y="5268600"/>
                  <a:ext cx="4239720" cy="46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>
              <a:off x="900000" y="2494080"/>
              <a:ext cx="7272000" cy="3240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00720" y="436572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042920" y="981000"/>
            <a:ext cx="6841800" cy="3527280"/>
            <a:chOff x="1042920" y="981000"/>
            <a:chExt cx="6841800" cy="3527280"/>
          </a:xfrm>
        </p:grpSpPr>
        <p:sp>
          <p:nvSpPr>
            <p:cNvPr id="126" name=""/>
            <p:cNvSpPr/>
            <p:nvPr/>
          </p:nvSpPr>
          <p:spPr>
            <a:xfrm>
              <a:off x="1042920" y="1365480"/>
              <a:ext cx="6841800" cy="31428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切勿將判斷兩數是否相等的判斷式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(A==B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寫成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(A=B)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也不要將判斷兩數是否不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等的判斷式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(A!=B)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寫成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(A&lt;&gt;B)</a:t>
              </a: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這些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是初學者很容易犯的錯喔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042920" y="981000"/>
              <a:ext cx="2336760" cy="384480"/>
              <a:chOff x="1042920" y="981000"/>
              <a:chExt cx="2336760" cy="384480"/>
            </a:xfrm>
          </p:grpSpPr>
          <p:sp>
            <p:nvSpPr>
              <p:cNvPr id="128" name=""/>
              <p:cNvSpPr/>
              <p:nvPr/>
            </p:nvSpPr>
            <p:spPr>
              <a:xfrm>
                <a:off x="1042920" y="981000"/>
                <a:ext cx="1807920" cy="3844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28520" y="981000"/>
                <a:ext cx="551160" cy="38448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26920" y="1136520"/>
            <a:ext cx="734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f(con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o do somet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o do other t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成立時，程式就會執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判斷式下一行的敘述，否則就執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下一行的敘述，現在換成中文的說法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我有三百元的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我就去看一場電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否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我就去游泳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26920" y="549360"/>
            <a:ext cx="324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配合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來做判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1136520"/>
            <a:ext cx="7345440" cy="4057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複合敘述格式如下所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f(cond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do thing_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do thing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do other thing_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do other thing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549360"/>
            <a:ext cx="194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複合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907920"/>
            <a:ext cx="7345440" cy="402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階層狀判斷式顧名思義就是一個判斷式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裡面還存在另一個判斷式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，如果判斷式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的條件成立才會繼續進行判斷式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的條件判斷。當然，如果我們必須進行一連串的複雜判斷，我們可以在判斷式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之中再陸續加入判斷式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、判斷式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D…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等一層一層的判斷下去。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階層判斷式的例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if(condition_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if(condition_B_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o do thing_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o do thing_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26920" y="549360"/>
            <a:ext cx="194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階層判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08T06:44:52Z</dcterms:modified>
  <cp:revision>33</cp:revision>
  <dc:subject/>
  <dc:title>投影片 1</dc:title>
</cp:coreProperties>
</file>