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FE3F-D72B-498F-AF3A-F81588F8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AC7-4F00-481F-B40B-A1A58C66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D4B-0EEC-4563-BD09-5BA66F9C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01E-CD0A-4AFE-A50B-A3AEF2B5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591-6366-455C-86E5-CFE826B1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67E-8CE1-47C2-92F8-627EFA8A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843-7420-44B6-86D6-3505B472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A4A-4C4C-44EE-8A39-F31B9CC5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40E-7E9A-42F4-A01E-8D77A9F0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D72-7E95-460F-A640-3ECEE9CA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21F-0A97-406C-825E-F90A0B98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704-7B05-4E76-B58B-19CA7B77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ECCA-0FEC-42DB-9AA7-00D5BE39B4C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549360"/>
            <a:ext cx="6048360" cy="122400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第１２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虛擬函數與多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2308320"/>
            <a:ext cx="52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2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虛擬函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2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虛擬解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2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虛擬繼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4360" y="1628640"/>
            <a:ext cx="77770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的物件導向觀念裡，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關鍵字代表的是一個虛擬的位址，它的目的只是用來指示真正的實體位址而已，就像是我們在這一章裡的第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節內所說的一樣，我們定義一個實體位址來存放應有的函數或類別，其它需要呼叫或繼承它的類別則只是記錄它的實體位址而已，並不是真接呼叫或繼承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940360" y="4005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虛擬繼承的成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2-1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虛擬函數與多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2349360"/>
            <a:ext cx="575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2-1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範例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2-1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增加物件類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2-1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抽象類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413000"/>
            <a:ext cx="77770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使用虛擬函數的目的是在於更容易維護程式、新增物件，以及程式再利用等特性。我們在開始較大型的程式之前，我們必須要考慮到爾後程式碼不符合現今的狀況所使用的時候，我們可以不必更動到主程式架構，而只需要新增功能來取代舊有的程式即可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虛擬函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413000"/>
            <a:ext cx="77770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新細明體"/>
              </a:rPr>
              <a:t>只要是在類別中出現</a:t>
            </a:r>
            <a:r>
              <a:rPr b="1" lang="zh-TW" sz="2400" spc="-1" strike="noStrike">
                <a:solidFill>
                  <a:srgbClr val="003300"/>
                </a:solidFill>
                <a:latin typeface="新細明體"/>
              </a:rPr>
              <a:t>pure virtual</a:t>
            </a:r>
            <a:r>
              <a:rPr b="1" lang="zh-TW" sz="2400" spc="-1" strike="noStrike">
                <a:solidFill>
                  <a:srgbClr val="003300"/>
                </a:solidFill>
                <a:latin typeface="新細明體"/>
              </a:rPr>
              <a:t>函數，這個類別則會被稱為「抽象類別」，意思就是說它是用來被其它的類別所繼承，而不會用來產生該類別的物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新細明體"/>
              </a:rPr>
              <a:t>1.</a:t>
            </a:r>
            <a:r>
              <a:rPr b="0" lang="zh-TW" sz="2400" spc="-1" strike="noStrike">
                <a:solidFill>
                  <a:srgbClr val="003300"/>
                </a:solidFill>
                <a:latin typeface="新細明體"/>
              </a:rPr>
              <a:t>抽象類別不能產生其類別的物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新細明體"/>
              </a:rPr>
              <a:t>2.</a:t>
            </a:r>
            <a:r>
              <a:rPr b="0" lang="zh-TW" sz="2400" spc="-1" strike="noStrike">
                <a:solidFill>
                  <a:srgbClr val="003300"/>
                </a:solidFill>
                <a:latin typeface="新細明體"/>
              </a:rPr>
              <a:t>繼承抽象類別的子類別都必須定義父類別的</a:t>
            </a:r>
            <a:r>
              <a:rPr b="0" lang="zh-TW" sz="2400" spc="-1" strike="noStrike">
                <a:solidFill>
                  <a:srgbClr val="003300"/>
                </a:solidFill>
                <a:latin typeface="新細明體"/>
              </a:rPr>
              <a:t>pure virtual</a:t>
            </a:r>
            <a:r>
              <a:rPr b="0" lang="zh-TW" sz="2400" spc="-1" strike="noStrike">
                <a:solidFill>
                  <a:srgbClr val="003300"/>
                </a:solidFill>
                <a:latin typeface="新細明體"/>
              </a:rPr>
              <a:t>函數，如果沒有定義父類別的</a:t>
            </a:r>
            <a:r>
              <a:rPr b="0" lang="zh-TW" sz="2400" spc="-1" strike="noStrike">
                <a:solidFill>
                  <a:srgbClr val="003300"/>
                </a:solidFill>
                <a:latin typeface="新細明體"/>
              </a:rPr>
              <a:t>pure virtual</a:t>
            </a:r>
            <a:r>
              <a:rPr b="0" lang="zh-TW" sz="2400" spc="-1" strike="noStrike">
                <a:solidFill>
                  <a:srgbClr val="003300"/>
                </a:solidFill>
                <a:latin typeface="新細明體"/>
              </a:rPr>
              <a:t>函數的話，那麼這個子類別則也會變成一個抽象類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012000" y="414972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抽象類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2-2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虛擬建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2349360"/>
            <a:ext cx="57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2-2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別的建構與解構順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2-2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解構變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1413000"/>
            <a:ext cx="77770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新細明體"/>
              </a:rPr>
              <a:t>類別在建構的運作過程。依照順序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新細明體"/>
              </a:rPr>
              <a:t>1.</a:t>
            </a:r>
            <a:r>
              <a:rPr b="0" lang="zh-TW" sz="2400" spc="-1" strike="noStrike">
                <a:solidFill>
                  <a:srgbClr val="003300"/>
                </a:solidFill>
                <a:latin typeface="新細明體"/>
              </a:rPr>
              <a:t>父類別的建構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新細明體"/>
              </a:rPr>
              <a:t>2.</a:t>
            </a:r>
            <a:r>
              <a:rPr b="0" lang="zh-TW" sz="2400" spc="-1" strike="noStrike">
                <a:solidFill>
                  <a:srgbClr val="003300"/>
                </a:solidFill>
                <a:latin typeface="新細明體"/>
              </a:rPr>
              <a:t>子類別的繼承類別資料成員的建構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新細明體"/>
              </a:rPr>
              <a:t>3.</a:t>
            </a:r>
            <a:r>
              <a:rPr b="0" lang="zh-TW" sz="2400" spc="-1" strike="noStrike">
                <a:solidFill>
                  <a:srgbClr val="003300"/>
                </a:solidFill>
                <a:latin typeface="新細明體"/>
              </a:rPr>
              <a:t>子類別的建構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012000" y="3429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2-3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虛擬繼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2381400"/>
            <a:ext cx="52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2-3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別的虛擬繼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2-3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虛擬繼承的應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2-3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虛擬繼承的成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1413000"/>
            <a:ext cx="777708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新細明體"/>
              </a:rPr>
              <a:t>C++</a:t>
            </a:r>
            <a:r>
              <a:rPr b="1" lang="zh-TW" sz="2400" spc="-1" strike="noStrike">
                <a:solidFill>
                  <a:srgbClr val="003300"/>
                </a:solidFill>
                <a:latin typeface="新細明體"/>
              </a:rPr>
              <a:t>的物件導向觀念裡有提供一個虛擬繼承的功能可以使用，我們可以使用虛擬繼承來節省記憶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新細明體"/>
              </a:rPr>
              <a:t>將基礎類別定義成只有一個，而如果有其它的衍生類別需要繼承它，則使用虛擬繼承的方式來繼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012000" y="4437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虛擬繼承的應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4511520"/>
            <a:ext cx="1440000" cy="503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3862440"/>
            <a:ext cx="1440000" cy="503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230800"/>
            <a:ext cx="1440000" cy="503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1" idx="1"/>
            <a:endCxn id="60" idx="3"/>
          </p:cNvCxnSpPr>
          <p:nvPr/>
        </p:nvCxnSpPr>
        <p:spPr>
          <a:xfrm flipH="1">
            <a:off x="2987280" y="4114800"/>
            <a:ext cx="72144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62" idx="1"/>
            <a:endCxn id="60" idx="3"/>
          </p:cNvCxnSpPr>
          <p:nvPr/>
        </p:nvCxnSpPr>
        <p:spPr>
          <a:xfrm flipH="1" flipV="1">
            <a:off x="2987280" y="4763520"/>
            <a:ext cx="721440" cy="71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546920" y="40784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00fff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79280" y="33577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00fff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7640" y="47242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00fff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1052640"/>
            <a:ext cx="7777080" cy="4118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從程式的角度來看，其實虛擬繼承是很簡單的，只要我們在繼承方式與類別名稱之間加入一個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關鍵字即可，如下列程式碼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lass A : public virtual 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(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lass B : public virtual 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B(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12000" y="450864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虛擬繼承的應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8:55:04Z</dcterms:created>
  <dc:creator>Justin</dc:creator>
  <dc:description/>
  <dc:language>en-US</dc:language>
  <cp:lastModifiedBy>Justin</cp:lastModifiedBy>
  <dcterms:modified xsi:type="dcterms:W3CDTF">2002-04-10T02:00:39Z</dcterms:modified>
  <cp:revision>70</cp:revision>
  <dc:subject/>
  <dc:title>投影片 1</dc:title>
</cp:coreProperties>
</file>