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97D8-F2AB-4F44-87CF-F84E816F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CC5-3E0C-40DB-BE98-F1567E46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E4A1-F540-4D34-8522-CC304F5A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D29-DF33-4BF8-967D-E63E8110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A05-7AAC-4447-B15A-DB00FF6A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FA3-1EAA-447D-A3D0-C0163DF5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586-E441-4686-83FC-3E70D312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D0FC-4710-4EEC-BCAC-E7BCD6B2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41E-4D7A-47DC-91F4-6F7BCB68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9E3C-C38F-4489-9C6E-A764EDA2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90A-1637-43C6-838B-47E621B1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F9B-959F-452A-A15C-F4B21158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4E9D-EF40-4D90-BF77-38A1E07C1E4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836640"/>
            <a:ext cx="6048360" cy="122400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第４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陣列、字串與結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7080" y="2708280"/>
            <a:ext cx="52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4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陣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4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字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4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結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4360" y="1341360"/>
            <a:ext cx="7777080" cy="2106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的程式語法提供了一個更為簡便的方法，我們不對每個字元字串陣列一一設定陣列大小，而讓編譯器自動幫我們判斷陣列大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範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har PC_Game_Name1[]="Magic World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har PC_Game_Name2[]="Super Boom Ma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har PC_Game_Name3[]="Happy Dog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443640" y="350028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6920" y="549360"/>
            <a:ext cx="2016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字元字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1197000"/>
            <a:ext cx="77770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有關字元字串與數值間轉換的指令非常的多，其中最常用的包括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toi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」用來將字串型資料轉換為整數數值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int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tof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」用來將字串型資料轉換為浮點數數值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float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tol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」用來將資串型資料轉換為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long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另外也有用來進行反向操作的指令包括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toa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」用來將整數數值轉換為字串型資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ltoa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」用來將長整數數值轉換為字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084720" y="414972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6920" y="549360"/>
            <a:ext cx="36738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數值與字元字串的轉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4360" y="1506600"/>
            <a:ext cx="7777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它不像字元字串是以一個字元一個字元來拼湊出整個字串，使用這種類別來建立「物件」的話，電腦可以直接將我們所需要的文字直接當成字串來處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範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string PC_Game_Name[]={"Magic World","Super Boom Man","Happy Dog"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084720" y="350028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26920" y="549360"/>
            <a:ext cx="2160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String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類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4-3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結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2349360"/>
            <a:ext cx="52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4-3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結構宣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4-3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使用結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4360" y="1773360"/>
            <a:ext cx="7777080" cy="48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在</a:t>
            </a: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C++</a:t>
            </a: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程式語法中，針對不同資料型態的資料管理，它提供了「結構」來進行這樣的工作。所謂的結構，它的原理其實跟前面提到的陣列蠻相似的，只不過在結構裡面可以用來儲存不同資料型態的資料，所以結構的功能要比陣列來得強大多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56360" y="371628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4360" y="1197000"/>
            <a:ext cx="777708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使用結構之前必須先經過宣告的步驟，關於結構的宣告，其格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struct struct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eclare struct_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範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struct PC_Game_Str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har Name[2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nt Pri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har Date[1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219640" y="443700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6920" y="549360"/>
            <a:ext cx="1944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結構宣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4360" y="1197000"/>
            <a:ext cx="7777080" cy="4179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當變數宣告好之後，第二個工作就是利用結構成員運算子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(.)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，也稱為點運算子，來取用結構成員。我們先來看看為結構宣告變數時的格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struct_name struct_variab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範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PC_Game_Struct PC_Game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PC_Game_Struct PC_Game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PC_Game_Struct PC_Game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trcpy(PC_Game1.Name,"Magic Worl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PC_Game1.Price=5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trcpy(PC_Game1.Date,"1998/03/0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trcpy(PC_Game2.Name,"Super Boom Ma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PC_Game2.Price=75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869080" y="4437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549360"/>
            <a:ext cx="1944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使用結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4-1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陣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2381400"/>
            <a:ext cx="52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4-1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陣列的宣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4-1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存取陣列元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4-1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陣列初始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773360"/>
            <a:ext cx="7777080" cy="48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在</a:t>
            </a: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C++</a:t>
            </a: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的程式語法中提供了「陣列」這種特殊的資料結構來解決上述的問題，它可以讓程式把同類的資訊全部記錄在某一段記憶體中，一來可以讓我們省去為同類資訊一一命名的麻煩，二來還可以透過「索引值」來取得存在記憶體中我們所真正需要的資訊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1319040"/>
            <a:ext cx="7345440" cy="137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變數與陣列最大的差別在於，一個變數只能儲存一個資訊，而一個陣列卻可以儲存多個資訊，但先決條件是這些資訊都是相同的資料型態。因此，我們可以把一個陣列想像成是一堆相同資料型態的變數集合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我們把這些變數叫做「陣列元素」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宣告一個陣列跟宣告一個變數是差不多的，我們來看它的格式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rray_type array_name[array_size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陣列的宣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存取陣列元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51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1319040"/>
            <a:ext cx="73454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陣列是藉由的「陣列索引值」來存取陣列元素的內容。現在我們來看看它在記憶體中的長相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070080"/>
            <a:ext cx="2448000" cy="5032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3573360"/>
            <a:ext cx="2448000" cy="5032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4078440"/>
            <a:ext cx="2448000" cy="502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3246480"/>
            <a:ext cx="431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9080" y="2638440"/>
            <a:ext cx="23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PC_Game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31417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PC_Game_Price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05440" y="35733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_Game_Price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5440" y="40784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_Game_Price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263700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陣列元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472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陣列索引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156360" y="450864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26920" y="1319040"/>
            <a:ext cx="7345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宣告陣列的時候如果已經知道每個陣列元素的內容時，其實也可以在宣告陣列的同時就把這些內容直接指定給陣列元素，而不必在程式裡面一個一個的設定，我們把直接指定值給陣列元素的動作叫做「陣列初始化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初始化陣列的語法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rray_type array_name[array_size]={value_1, value_2,……, value_n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陣列初始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4-2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字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2349360"/>
            <a:ext cx="52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4-2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字元字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4-2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數值與字元字串的轉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4-2-3 string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類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1197000"/>
            <a:ext cx="7777080" cy="2106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「字串」這兩個字從字面上的意思來看，可以解釋成「把字一個一個給串起來」，事實上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程式語言對於字串的作法就像上面所說的，我們稱之為「字元字串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首先設定一個資料型態為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的陣列，然後再把字元字串所使用到的字母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就是字元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，一個一個依序擺放到陣列元素裡面去，如此一來，集合這些陣列元素所展現出來的就是一串文字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範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har PC_Game_Name1[11]="Magic World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har PC_Game_Name2[14]="Super Boom Ma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har PC_Game_Name3[9]="Happy Dog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940360" y="4508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6920" y="549360"/>
            <a:ext cx="2016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字元字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26920" y="1319040"/>
            <a:ext cx="7345440" cy="2775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程式語法中，為了判斷一個字元字串的結尾，它會自動的在每個字元字串的最後加上一個‘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\0’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，也就是所謂的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字元，它的大小剛好佔用一個字元，底下是我們針對一個字元字串在陣列中的情況所畫出來的示意圖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6920" y="549360"/>
            <a:ext cx="2016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字元字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31338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133800"/>
            <a:ext cx="505080" cy="504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313380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3133800"/>
            <a:ext cx="504720" cy="504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19640" y="31338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3133800"/>
            <a:ext cx="504720" cy="504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27640" y="31338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32360" y="3133800"/>
            <a:ext cx="504720" cy="504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35640" y="31338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3133800"/>
            <a:ext cx="504720" cy="504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385452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1      2      3      4      5      6      7     8      9      10     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31338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3133800"/>
            <a:ext cx="505080" cy="504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8:55:04Z</dcterms:created>
  <dc:creator>Justin</dc:creator>
  <dc:description/>
  <dc:language>en-US</dc:language>
  <cp:lastModifiedBy>Justin</cp:lastModifiedBy>
  <dcterms:modified xsi:type="dcterms:W3CDTF">2002-04-08T07:20:13Z</dcterms:modified>
  <cp:revision>36</cp:revision>
  <dc:subject/>
  <dc:title>投影片 1</dc:title>
</cp:coreProperties>
</file>