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5E0D-06C6-4F13-98F5-92F45B4B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0142-5B74-4CFF-BBD3-2D904EC9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06B8-DC82-490B-940D-70E8152E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7F3A-9FE3-449D-BDCF-F02F29EC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16CF-BD22-4DA1-8BBB-F3DA2BDE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C810-CCC2-4FFC-8144-69C099BD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8D95-9A37-417D-8D6A-C7239692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135B-DCDA-43F9-81D9-51F6D6DA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1109-DA8C-4513-984A-F1B50B70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E0C9-A018-48C5-9022-9153C765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066E-986E-477C-B831-96BE12E4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3142-2F5A-48A4-AD43-EEAB9F75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E556-C18A-45B1-81E9-2223316BD6F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836640"/>
            <a:ext cx="6048360" cy="122400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第２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C++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程式基本架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40000" y="2708280"/>
            <a:ext cx="525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2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程式的基本架構與元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2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變數宣告與資料型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26920" y="1290600"/>
            <a:ext cx="7345440" cy="2533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函式的主要作用，乃在將程式中具有「重複性高」、「特殊功能」的程式碼區段，以獨立宣告、封裝的方式加以強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函式的範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int Plus(int i, int 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return i+j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使用函式，可說是模組化的第一步，具有高可讀性及易維護性等優點。然而，其相對所付出的代價是，比較起來會比不用函式慢，因為其程式執行時，必須產生多餘的「呼叫堆疊動作」及「執行跳躍動作」。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156360" y="4437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26920" y="549360"/>
            <a:ext cx="122400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函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26920" y="1290600"/>
            <a:ext cx="73454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當我們的程式必須與使用者產生互動時，就必須有一個介面，提供使用者進行資料的輸入，及程式執行結果的輸出。一般來講，輸入裝置包含鍵盤、滑鼠等週邊硬體，以及硬碟中的檔案；而輸出裝置亦包含螢幕、印表機等硬體和硬碟中的檔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輸入與輸出範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printf("This is my first file.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in&gt;&gt;tempfi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out&lt;&lt;"The Result is :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156360" y="4221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26920" y="549360"/>
            <a:ext cx="180036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輸入與輸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03280" y="1125360"/>
            <a:ext cx="6048360" cy="79236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2-2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變數宣告與資料型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40000" y="2349360"/>
            <a:ext cx="525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2-2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變數？常數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2-2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變數與資料態的關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2-2-3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資料型態的種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2-2-4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變數及常數的宣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2-2-5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變數有效範圍及生命週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26920" y="1589040"/>
            <a:ext cx="7345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「變數」是程式設計師用來存取記憶體的一種識別代號；「常數」其實也是一樣，是一種對應於記憶體的識別代號。兩者的不同處，在於「變數」可變，「常數」則不可變，以及兩者的宣告方式不同。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156360" y="4221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26920" y="549360"/>
            <a:ext cx="237672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變數？常數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26920" y="1577880"/>
            <a:ext cx="7345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變數經過宣告後，於程式執行階段，將配置一塊對應於該變數的「自由記憶體空間」，供程式設計師視狀況，將變數的內容進行改變，或進行讀取。而變數的宣告，主要在三個地方：函式中、函式接收外部輸入的參數以及所有函式之外。依其宣告位置，其有效範圍及生命週期也會有所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156360" y="4221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26920" y="549360"/>
            <a:ext cx="1297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變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26920" y="1268280"/>
            <a:ext cx="7345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當我們進行常數的宣告後，程式執行時，將配置一塊對應它的「鎖定記憶體空間」，在其存在的期間內，任何人（包含程式設計師本身）僅能讀取其初始宣告值，而不能對其內容進行修改。一般而言，若程式設計師嘗試於程式碼中去更改常數的內容，大部分的編譯器均會於編譯時產生錯誤訊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另外，在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與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中，常數可以是任何基本型態；換句話說，常數宣告時，不須指定其資料型態，編譯器於編譯時將視其代表之內容，為其指定型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6300720" y="436572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26920" y="549360"/>
            <a:ext cx="1297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常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26920" y="1268280"/>
            <a:ext cx="7345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具體而言，「資料型態」是「程式語言」（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VC++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就是一種程式語言）用來規範其變數、常數等一般結構，所應對應的記憶體大小之代碼集合。進一步來說，就是編譯器為了確實掌握其記憶體配置的一種記憶體對應表。每一種編譯器會有不同的「資料型態定義對應表」；甚至，同名的資料型態所對應的記憶體大小也會有所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12000" y="357336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6920" y="549360"/>
            <a:ext cx="2737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變數與資料型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26920" y="981000"/>
            <a:ext cx="7345440" cy="2838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 u="sng">
                <a:solidFill>
                  <a:srgbClr val="000000"/>
                </a:solidFill>
                <a:uFillTx/>
                <a:latin typeface="Arial"/>
              </a:rPr>
              <a:t>void</a:t>
            </a:r>
            <a:r>
              <a:rPr b="1" lang="zh-TW" sz="2000" spc="-1" strike="noStrike" u="sng">
                <a:solidFill>
                  <a:srgbClr val="000000"/>
                </a:solidFill>
                <a:uFillTx/>
                <a:latin typeface="Arial"/>
              </a:rPr>
              <a:t>（無值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用以宣告無傳回值的函式型態，或者當我們想進行指標形態的轉換時，當成基本指標形態使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 u="sng">
                <a:solidFill>
                  <a:srgbClr val="000000"/>
                </a:solidFill>
                <a:uFillTx/>
                <a:latin typeface="Arial"/>
              </a:rPr>
              <a:t>int</a:t>
            </a:r>
            <a:r>
              <a:rPr b="1" lang="zh-TW" sz="2000" spc="-1" strike="noStrike" u="sng">
                <a:solidFill>
                  <a:srgbClr val="000000"/>
                </a:solidFill>
                <a:uFillTx/>
                <a:latin typeface="Arial"/>
              </a:rPr>
              <a:t>（整數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用以宣告不具小數點的整數數值型態，其長度依照其作業系統環境不同而有所不同。在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位元的作業環境中（如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MS-DOS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及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Windows 3.1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）其長度為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個位元組；而在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位元的作業環境（如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Windows 98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）中，其長度就變成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個位元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 u="sng">
                <a:solidFill>
                  <a:srgbClr val="000000"/>
                </a:solidFill>
                <a:uFillTx/>
                <a:latin typeface="Arial"/>
              </a:rPr>
              <a:t>float</a:t>
            </a:r>
            <a:r>
              <a:rPr b="1" lang="zh-TW" sz="2000" spc="-1" strike="noStrike" u="sng">
                <a:solidFill>
                  <a:srgbClr val="000000"/>
                </a:solidFill>
                <a:uFillTx/>
                <a:latin typeface="Arial"/>
              </a:rPr>
              <a:t>（浮點數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用以宣告具小數點之實數數值型態，其長度為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個位元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443640" y="4437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26920" y="549360"/>
            <a:ext cx="2737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基本資料型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26920" y="1424160"/>
            <a:ext cx="73454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所謂「延伸資料型態」乃是因為這些資料型態都是由基本資料型態延伸而來，其中大部分是加上修飾字而產生變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修飾字包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signed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（有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unsigned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（無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（加長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short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（減短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443640" y="4437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26920" y="549360"/>
            <a:ext cx="2737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延伸資料型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26920" y="1174680"/>
            <a:ext cx="7345440" cy="4057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變數宣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har str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int x, y, 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unsigned short s1, s2, s3, s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bool Found, N_Fou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long double L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常數宣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 u="sng">
                <a:solidFill>
                  <a:srgbClr val="000000"/>
                </a:solidFill>
                <a:uFillTx/>
                <a:latin typeface="Arial"/>
              </a:rPr>
              <a:t>使用「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Arial"/>
              </a:rPr>
              <a:t>const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Arial"/>
              </a:rPr>
              <a:t>」修飾字</a:t>
            </a:r>
            <a:r>
              <a:rPr b="0" lang="zh-TW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onst DataType Constant_Name = Val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onst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資料型態 常數名稱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常數值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 u="sng">
                <a:solidFill>
                  <a:srgbClr val="000000"/>
                </a:solidFill>
                <a:uFillTx/>
                <a:latin typeface="Arial"/>
              </a:rPr>
              <a:t>使用前端處理指令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#define Constant_Nam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#define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常數名稱 常數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26920" y="549360"/>
            <a:ext cx="2737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變數及常數宣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03280" y="1125360"/>
            <a:ext cx="6048360" cy="79236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2-1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程式設計的基本架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2349360"/>
            <a:ext cx="73454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所謂「程式」，簡單來說就是將程式碼依某些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定條件及某些既定形式集中（編寫），經由編譯成機器碼，交付計算機（電腦）執行運算，以達成某些特定目的或任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不管是何種程式語言，比方說現在比較流行的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Visual Basic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Borland C++ Builder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或本書所提之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VC++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，其實都有其共通性，也就是程式語言所必須具備的基本要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26920" y="1440000"/>
            <a:ext cx="7345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所謂「有效範圍」，指的是變數本身的作用及影響範圍；而「生命週期」就是變數於程式執行階段，實際存在的時間區段。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變數依其宣告的位置，可分為三種：區域變數、全域變數、規格化參數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796000" y="328464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26920" y="549360"/>
            <a:ext cx="3745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變數有效範圍及生命週期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125360"/>
            <a:ext cx="7345440" cy="1144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300" spc="-1" strike="noStrike">
                <a:solidFill>
                  <a:srgbClr val="000000"/>
                </a:solidFill>
                <a:latin typeface="Arial"/>
              </a:rPr>
              <a:t>區域變數是指宣告於程式區塊中的變數。所謂「程式區塊」是指以函式、程式敘述或類別等資料結構所行成之區域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300" spc="-1" strike="noStrike">
                <a:solidFill>
                  <a:srgbClr val="000000"/>
                </a:solidFill>
                <a:latin typeface="Arial"/>
              </a:rPr>
              <a:t>區域變數的有效範圍，僅止於包含此區域變數的程式區塊，它只供此程式區塊中的程式敘述作參考（運用），其他程式部分不曉得也無法運用到此變數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300" spc="-1" strike="noStrike">
                <a:solidFill>
                  <a:srgbClr val="000000"/>
                </a:solidFill>
                <a:latin typeface="Arial"/>
              </a:rPr>
              <a:t>區域變數是當其被包含（宣告）的程式區塊被呼叫、執行時，才會被配置。而當此程式區塊被執行完畢，程式執行離開此程式區塊時，就被清除、消失。換言之，這段期間就是區域變數的生命週期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940360" y="4437000"/>
            <a:ext cx="2016360" cy="2016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26920" y="549360"/>
            <a:ext cx="194472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區域變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26920" y="1357200"/>
            <a:ext cx="7345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與區域變數相反，全域變數宣告於任何函式及程式區塊之外。其有效範圍為全部程式，意思是，在程式中的所有程式敘述及運算式，皆可使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一般而言，全域變數最好是放在程式一開始的宣告區內。而全域變數的生命週期，是從程式執行開始，到程式執行結束為止；換句話說就是整個程式執行期間內均存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940360" y="4076640"/>
            <a:ext cx="2016360" cy="2016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6920" y="549360"/>
            <a:ext cx="194472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全域變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26920" y="1357200"/>
            <a:ext cx="7632720" cy="2136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所謂規格化參數，就是函式呼叫時的傳遞參數。其宣告格式與其他變數相同，不同的是必須將每個參數以逗號「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」分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FuncDataType FuncName(DataType1 para1, DataType2 para2,…)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函式資料型態 函式名稱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資料型態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參數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資料型態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參數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2,…)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其中的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DataType1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DataType2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分別代表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para1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及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para2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的資料型態。而「…」表示之後可以此類推形成參數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規格化參數可視同函式內的區域變數，也就是說，它的有效範圍就是宣告它的函式內，而它的生命週期就跟函式的生命週期相同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5940360" y="436572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26920" y="549360"/>
            <a:ext cx="194472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規式化參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26920" y="1357200"/>
            <a:ext cx="76327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其實當我們宣告變數後，於程式執行階段，雖然已經指定其對應記憶體位址及其空間大小，但是此時該記憶體區塊中的內容，仍維持原來的散亂數值，我們稱之為「未初始化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一般來說，為了避免之後程式碼對此「未初始化」的變數記憶體空間進行存取使用，我們會在變數宣告時，順便為它設定初始值，進行「初始化」。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初始化的方法有下面兩種： 直接設定、以運算式設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5940360" y="436572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26920" y="549360"/>
            <a:ext cx="2737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變數初始值的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03280" y="1125360"/>
            <a:ext cx="6048360" cy="79236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2-3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物件導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2597040"/>
            <a:ext cx="525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2-3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何謂物件導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2-3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物件導向程式設計的特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26920" y="1357200"/>
            <a:ext cx="7274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物件導向的設計概念跳脫了傳統「程序導向」的設計理念。它以逆向思考的方式，改採以「資料」為中心，強調「資料」的「獨立性」，並以此去主導及組織程式碼編寫的架構。這樣的方式，變成「程式碼」的架構是向「資料」集中後進行發展。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940360" y="335772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26920" y="549360"/>
            <a:ext cx="2737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何謂物件導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26920" y="1357200"/>
            <a:ext cx="727416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抽象（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Abstraction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封裝（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Encapsulation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多型（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polymorphism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繼承（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inheritance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複合（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composition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5940360" y="335772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549360"/>
            <a:ext cx="3745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物件導向程式設計的特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26920" y="1125360"/>
            <a:ext cx="73454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程式的一開始，我們必須先讓編譯器知道，需要將哪些既有之外部程式的標頭檔包含進來。那何謂「標頭檔」呢？最簡單的解釋，就是：「已完成之程式庫中的函式及資料結構，以一個文字檔將他們的格式宣告，以供其他程式引用及使用」。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語言中是以前端處理指令的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#include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」來實施標頭檔的引入，有以下兩種格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#include "stdafx.h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156360" y="4221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6920" y="549360"/>
            <a:ext cx="2521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標頭檔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1290600"/>
            <a:ext cx="7345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若要簡單地對「前端處理指令」下一個定義，應該說是：「程式設計師用來要求編譯器，於編譯前預先將一些特定環境準備好」。所以嚴格說起來，「前端處理指令」並不包含於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語言中，而是程式設計師操作編譯器的一種介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26920" y="549360"/>
            <a:ext cx="2521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前端處理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1290600"/>
            <a:ext cx="734544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就是程式主要的進入點，及包含主要程式碼的程式區塊，其結構如下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void main(int argc, char* argv[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（程式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156360" y="3789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26920" y="549360"/>
            <a:ext cx="2521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主程式本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26920" y="1290600"/>
            <a:ext cx="7345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註解就是用來提示程式設計師某一個變數或某一個結構，所代表的涵義。其實乍看之下，註解對整個程式執行並沒有任何影響；但是，當您的程式大到具有千行以上的規模，若其中不含任何註解，改天當您要維護您的程式時，將會發現那是一件相當痛苦的事，因為您已經不認識您的程式了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VC++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中，是以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來實施單行的註解；而多行以上的註解，是以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/*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及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*/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將註解包含其中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156360" y="4221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26920" y="549360"/>
            <a:ext cx="1513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註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6920" y="1290600"/>
            <a:ext cx="73454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「變數」是程式設計師用來告訴編譯器，於記憶體中配置一塊記憶體空間，用來儲存資料；而變數名稱只是一種識別代號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變數宣告的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har j[1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float 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156360" y="393372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6920" y="549360"/>
            <a:ext cx="180036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變數宣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6920" y="1290600"/>
            <a:ext cx="7345440" cy="3448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對於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及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語言來說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「指標」是一個相當重要的元素。其最主要的功用，在於直接對記憶體的定址，並進行較低階的記憶體運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指標的使用範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int *i, *j, 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i = new int[1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j =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for (k = 0; k &lt; 10; k++, j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(*j) = 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printf("The Answer is %d .\n",i[9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delete []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156360" y="429264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26920" y="549360"/>
            <a:ext cx="1513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指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26920" y="1290600"/>
            <a:ext cx="7345440" cy="2533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資料結構可以說是變數的擴張型態；說穿了，它也是記憶體的配置及運用的「變數」，但是它比一般變數，具有更大的彈性及使用空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資料結構的範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struct My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int 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char Name[1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int Inco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156360" y="4005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549360"/>
            <a:ext cx="1729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資料結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08:55:04Z</dcterms:created>
  <dc:creator>Justin</dc:creator>
  <dc:description/>
  <dc:language>en-US</dc:language>
  <cp:lastModifiedBy>Justin</cp:lastModifiedBy>
  <dcterms:modified xsi:type="dcterms:W3CDTF">2002-04-08T05:56:43Z</dcterms:modified>
  <cp:revision>45</cp:revision>
  <dc:subject/>
  <dc:title>投影片 1</dc:title>
</cp:coreProperties>
</file>