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631-2DA6-41DF-B3A6-8CC51E0B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F9E-CD96-437D-9539-289FB079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CAEC-2F5C-4BDE-8C72-964B5B8E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F99F-B732-4567-81C6-66850CDD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78A-960D-414B-8284-309C3E16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8B2-8478-4AAA-AB86-437175E2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7B70-29E1-47CA-8CC2-B29DD372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D72-91BF-46AC-9564-10F28406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867-0A64-4139-9F7F-E30A4EB7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AC7E-7F6C-496B-9F4D-BB9CF2EF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21D-4AC8-421F-BCCD-4487F45A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B80-A6D3-4E88-B2FE-9D72D684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29A1-2386-4950-9D74-79E27E4C1A7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836640"/>
            <a:ext cx="6048360" cy="122400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第１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Visual C++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程式設計開發環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2708280"/>
            <a:ext cx="52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-1 Visual C++ 6.0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概論與安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-2 ID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整合開發環境介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專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1280" y="304920"/>
            <a:ext cx="2160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程式編輯視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981000"/>
            <a:ext cx="54723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000000"/>
                </a:solidFill>
                <a:uFillTx/>
                <a:latin typeface="新細明體"/>
              </a:rPr>
              <a:t>程式編輯視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用來編輯程式碼的地方，它在除錯階段亦佔有相當重要的地位，其中包括：程式追蹤、中斷點設定等動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84360" y="2852640"/>
            <a:ext cx="547236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000000"/>
                </a:solidFill>
                <a:uFillTx/>
                <a:latin typeface="新細明體"/>
              </a:rPr>
              <a:t>訊息輸出視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主要用於輸出（反應）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Visual C++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的一些回應訊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編輯的中間狀況及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除錯階段的相關訊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檔案或字句搜尋的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程式執行的結果輸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1800000" cy="101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2852640"/>
            <a:ext cx="18000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11280" y="304920"/>
            <a:ext cx="20160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除錯視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981000"/>
            <a:ext cx="547236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000000"/>
                </a:solidFill>
                <a:uFillTx/>
                <a:latin typeface="新細明體"/>
              </a:rPr>
              <a:t>變數視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用於監看除錯階段，執行某部份程式時，該部份的變數分佈情形、各變數所分配的記憶體位址及其所代表的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2637000"/>
            <a:ext cx="54723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000000"/>
                </a:solidFill>
                <a:uFillTx/>
                <a:latin typeface="新細明體"/>
              </a:rPr>
              <a:t>呼叫堆疊視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主要功能在於監看程式執行時，函式呼叫的層次關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4437000"/>
            <a:ext cx="5472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000000"/>
                </a:solidFill>
                <a:uFillTx/>
                <a:latin typeface="新細明體"/>
              </a:rPr>
              <a:t>監看視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當程式設計師想於除錯階段，鎖定部份變數、運算式，甚至是敘述句，監看其結果、變化時，便可借助此監看視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U006" descr=""/>
          <p:cNvPicPr/>
          <p:nvPr/>
        </p:nvPicPr>
        <p:blipFill>
          <a:blip r:embed="rId2"/>
          <a:srcRect l="0" t="6836" r="66585" b="0"/>
          <a:stretch/>
        </p:blipFill>
        <p:spPr>
          <a:xfrm>
            <a:off x="684360" y="995400"/>
            <a:ext cx="1726920" cy="993600"/>
          </a:xfrm>
          <a:prstGeom prst="rect">
            <a:avLst/>
          </a:prstGeom>
          <a:ln w="0">
            <a:noFill/>
          </a:ln>
        </p:spPr>
      </p:pic>
      <p:pic>
        <p:nvPicPr>
          <p:cNvPr id="77" name="U006" descr=""/>
          <p:cNvPicPr/>
          <p:nvPr/>
        </p:nvPicPr>
        <p:blipFill>
          <a:blip r:embed="rId3"/>
          <a:srcRect l="32450" t="0" r="37945" b="-7838"/>
          <a:stretch/>
        </p:blipFill>
        <p:spPr>
          <a:xfrm>
            <a:off x="684360" y="2637000"/>
            <a:ext cx="1726920" cy="1150920"/>
          </a:xfrm>
          <a:prstGeom prst="rect">
            <a:avLst/>
          </a:prstGeom>
          <a:ln w="0">
            <a:noFill/>
          </a:ln>
        </p:spPr>
      </p:pic>
      <p:pic>
        <p:nvPicPr>
          <p:cNvPr id="78" name="U006" descr=""/>
          <p:cNvPicPr/>
          <p:nvPr/>
        </p:nvPicPr>
        <p:blipFill>
          <a:blip r:embed="rId4"/>
          <a:srcRect l="62060" t="0" r="0" b="0"/>
          <a:stretch/>
        </p:blipFill>
        <p:spPr>
          <a:xfrm>
            <a:off x="684360" y="4508640"/>
            <a:ext cx="1726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304920"/>
            <a:ext cx="20160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除錯視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981000"/>
            <a:ext cx="54723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000000"/>
                </a:solidFill>
                <a:uFillTx/>
                <a:latin typeface="新細明體"/>
              </a:rPr>
              <a:t>記憶體視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此除錯視窗提供直接指定記憶體位址，進行記憶體變化監看的功能，主要讓程式設計師了解實際記憶體的配置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2637000"/>
            <a:ext cx="5472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000000"/>
                </a:solidFill>
                <a:uFillTx/>
                <a:latin typeface="新細明體"/>
              </a:rPr>
              <a:t>暫存器視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提供程式設計師直接監看「暫存器」的內容變化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U009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1800000" cy="1387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11280" y="2708280"/>
            <a:ext cx="1800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042920" y="692280"/>
            <a:ext cx="7345080" cy="4318920"/>
            <a:chOff x="1042920" y="692280"/>
            <a:chExt cx="7345080" cy="4318920"/>
          </a:xfrm>
        </p:grpSpPr>
        <p:sp>
          <p:nvSpPr>
            <p:cNvPr id="85" name=""/>
            <p:cNvSpPr/>
            <p:nvPr/>
          </p:nvSpPr>
          <p:spPr>
            <a:xfrm>
              <a:off x="1042920" y="1163160"/>
              <a:ext cx="7345080" cy="384804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7760">
                <a:buSzPct val="102884"/>
                <a:buBlip>
                  <a:blip r:embed="rId2"/>
                </a:buBlip>
                <a:tabLst>
                  <a:tab algn="l" pos="6465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位元運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7760">
                <a:tabLst>
                  <a:tab algn="l" pos="0"/>
                  <a:tab algn="l" pos="6465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「位元運算」是電腦系統真正進行資料處理時的運算方式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7760">
                <a:tabLst>
                  <a:tab algn="l" pos="0"/>
                  <a:tab algn="l" pos="6465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也就是二進位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0101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等的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NOT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等各種運算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7760">
                <a:buSzPct val="102884"/>
                <a:buBlip>
                  <a:blip r:embed="rId3"/>
                </a:buBlip>
                <a:tabLst>
                  <a:tab algn="l" pos="6465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組合語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7760">
                <a:tabLst>
                  <a:tab algn="l" pos="0"/>
                  <a:tab algn="l" pos="6465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最初在進行程式設計時，是必須以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0101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這類的控制碼來直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7760">
                <a:tabLst>
                  <a:tab algn="l" pos="0"/>
                  <a:tab algn="l" pos="6465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控制硬體，但是由於記憶及撰寫不易，於是發展了較高階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7760">
                <a:tabLst>
                  <a:tab algn="l" pos="0"/>
                  <a:tab algn="l" pos="6465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組合語言，以簡短的縮寫字母代表每一組二進位控制碼，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7760">
                <a:tabLst>
                  <a:tab algn="l" pos="0"/>
                  <a:tab algn="l" pos="6465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就是組合語言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7760">
                <a:buSzPct val="102884"/>
                <a:buBlip>
                  <a:blip r:embed="rId4"/>
                </a:buBlip>
                <a:tabLst>
                  <a:tab algn="l" pos="6465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暫存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7760">
                <a:tabLst>
                  <a:tab algn="l" pos="0"/>
                  <a:tab algn="l" pos="6465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「暫存器」是指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中的暫存記憶體斷置，使用暫存器視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7760">
                <a:tabLst>
                  <a:tab algn="l" pos="0"/>
                  <a:tab algn="l" pos="6465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可以觀看暫存器中所儲存的內容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042920" y="692280"/>
              <a:ext cx="2508480" cy="470520"/>
              <a:chOff x="1042920" y="692280"/>
              <a:chExt cx="2508480" cy="470520"/>
            </a:xfrm>
          </p:grpSpPr>
          <p:sp>
            <p:nvSpPr>
              <p:cNvPr id="87" name=""/>
              <p:cNvSpPr/>
              <p:nvPr/>
            </p:nvSpPr>
            <p:spPr>
              <a:xfrm>
                <a:off x="1042920" y="692280"/>
                <a:ext cx="1940760" cy="470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ff"/>
                    </a:solidFill>
                    <a:latin typeface="Arial"/>
                  </a:rPr>
                  <a:t>學習小技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959920" y="692280"/>
                <a:ext cx="591480" cy="470520"/>
              </a:xfrm>
              <a:prstGeom prst="rtTriangl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-181080" y="450864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042920" y="692280"/>
            <a:ext cx="7200720" cy="3888720"/>
            <a:chOff x="1042920" y="692280"/>
            <a:chExt cx="7200720" cy="3888720"/>
          </a:xfrm>
        </p:grpSpPr>
        <p:sp>
          <p:nvSpPr>
            <p:cNvPr id="91" name=""/>
            <p:cNvSpPr/>
            <p:nvPr/>
          </p:nvSpPr>
          <p:spPr>
            <a:xfrm>
              <a:off x="1042920" y="1116360"/>
              <a:ext cx="7200720" cy="346464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74600">
                <a:tabLst>
                  <a:tab algn="l" pos="0"/>
                  <a:tab algn="l" pos="6465960"/>
                  <a:tab algn="l" pos="6629400"/>
                  <a:tab algn="l" pos="6858000"/>
                  <a:tab algn="l" pos="7086600"/>
                  <a:tab algn="l" pos="7315200"/>
                  <a:tab algn="l" pos="7543800"/>
                  <a:tab algn="l" pos="7772400"/>
                  <a:tab algn="l" pos="8001000"/>
                  <a:tab algn="l" pos="8229600"/>
                  <a:tab algn="l" pos="8458200"/>
                  <a:tab algn="l" pos="8686800"/>
                  <a:tab algn="l" pos="8915400"/>
                  <a:tab algn="l" pos="9144000"/>
                  <a:tab algn="l" pos="9372600"/>
                  <a:tab algn="l" pos="9601200"/>
                  <a:tab algn="l" pos="9829800"/>
                  <a:tab algn="l" pos="10058400"/>
                  <a:tab algn="l" pos="10287000"/>
                  <a:tab algn="l" pos="10515600"/>
                  <a:tab algn="l" pos="107442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若沒有找到以上除錯視窗，請您進行「除錯執行階段」時，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>
                <a:tabLst>
                  <a:tab algn="l" pos="0"/>
                  <a:tab algn="l" pos="6465960"/>
                  <a:tab algn="l" pos="6629400"/>
                  <a:tab algn="l" pos="6858000"/>
                  <a:tab algn="l" pos="7086600"/>
                  <a:tab algn="l" pos="7315200"/>
                  <a:tab algn="l" pos="7543800"/>
                  <a:tab algn="l" pos="7772400"/>
                  <a:tab algn="l" pos="8001000"/>
                  <a:tab algn="l" pos="8229600"/>
                  <a:tab algn="l" pos="8458200"/>
                  <a:tab algn="l" pos="8686800"/>
                  <a:tab algn="l" pos="8915400"/>
                  <a:tab algn="l" pos="9144000"/>
                  <a:tab algn="l" pos="9372600"/>
                  <a:tab algn="l" pos="9601200"/>
                  <a:tab algn="l" pos="9829800"/>
                  <a:tab algn="l" pos="10058400"/>
                  <a:tab algn="l" pos="10287000"/>
                  <a:tab algn="l" pos="10515600"/>
                  <a:tab algn="l" pos="107442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「主要功能區」中任意位置，按滑鼠右鍵一次，將出現一個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>
                <a:tabLst>
                  <a:tab algn="l" pos="0"/>
                  <a:tab algn="l" pos="6465960"/>
                  <a:tab algn="l" pos="6629400"/>
                  <a:tab algn="l" pos="6858000"/>
                  <a:tab algn="l" pos="7086600"/>
                  <a:tab algn="l" pos="7315200"/>
                  <a:tab algn="l" pos="7543800"/>
                  <a:tab algn="l" pos="7772400"/>
                  <a:tab algn="l" pos="8001000"/>
                  <a:tab algn="l" pos="8229600"/>
                  <a:tab algn="l" pos="8458200"/>
                  <a:tab algn="l" pos="8686800"/>
                  <a:tab algn="l" pos="8915400"/>
                  <a:tab algn="l" pos="9144000"/>
                  <a:tab algn="l" pos="9372600"/>
                  <a:tab algn="l" pos="9601200"/>
                  <a:tab algn="l" pos="9829800"/>
                  <a:tab algn="l" pos="10058400"/>
                  <a:tab algn="l" pos="10287000"/>
                  <a:tab algn="l" pos="10515600"/>
                  <a:tab algn="l" pos="107442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快顯功能表」。此時，請您依視窗名稱勾選選項，此相對應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>
                <a:tabLst>
                  <a:tab algn="l" pos="0"/>
                  <a:tab algn="l" pos="6465960"/>
                  <a:tab algn="l" pos="6629400"/>
                  <a:tab algn="l" pos="6858000"/>
                  <a:tab algn="l" pos="7086600"/>
                  <a:tab algn="l" pos="7315200"/>
                  <a:tab algn="l" pos="7543800"/>
                  <a:tab algn="l" pos="7772400"/>
                  <a:tab algn="l" pos="8001000"/>
                  <a:tab algn="l" pos="8229600"/>
                  <a:tab algn="l" pos="8458200"/>
                  <a:tab algn="l" pos="8686800"/>
                  <a:tab algn="l" pos="8915400"/>
                  <a:tab algn="l" pos="9144000"/>
                  <a:tab algn="l" pos="9372600"/>
                  <a:tab algn="l" pos="9601200"/>
                  <a:tab algn="l" pos="9829800"/>
                  <a:tab algn="l" pos="10058400"/>
                  <a:tab algn="l" pos="10287000"/>
                  <a:tab algn="l" pos="10515600"/>
                  <a:tab algn="l" pos="107442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視窗將會出現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>
                <a:tabLst>
                  <a:tab algn="l" pos="0"/>
                  <a:tab algn="l" pos="6465960"/>
                  <a:tab algn="l" pos="6629400"/>
                  <a:tab algn="l" pos="6858000"/>
                  <a:tab algn="l" pos="7086600"/>
                  <a:tab algn="l" pos="7315200"/>
                  <a:tab algn="l" pos="7543800"/>
                  <a:tab algn="l" pos="7772400"/>
                  <a:tab algn="l" pos="8001000"/>
                  <a:tab algn="l" pos="8229600"/>
                  <a:tab algn="l" pos="8458200"/>
                  <a:tab algn="l" pos="8686800"/>
                  <a:tab algn="l" pos="8915400"/>
                  <a:tab algn="l" pos="9144000"/>
                  <a:tab algn="l" pos="9372600"/>
                  <a:tab algn="l" pos="9601200"/>
                  <a:tab algn="l" pos="9829800"/>
                  <a:tab algn="l" pos="10058400"/>
                  <a:tab algn="l" pos="10287000"/>
                  <a:tab algn="l" pos="10515600"/>
                  <a:tab algn="l" pos="107442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042920" y="692280"/>
              <a:ext cx="2459160" cy="424080"/>
              <a:chOff x="1042920" y="692280"/>
              <a:chExt cx="2459160" cy="424080"/>
            </a:xfrm>
          </p:grpSpPr>
          <p:sp>
            <p:nvSpPr>
              <p:cNvPr id="93" name=""/>
              <p:cNvSpPr/>
              <p:nvPr/>
            </p:nvSpPr>
            <p:spPr>
              <a:xfrm>
                <a:off x="1042920" y="692280"/>
                <a:ext cx="1902600" cy="4240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ff"/>
                    </a:solidFill>
                    <a:latin typeface="Arial"/>
                  </a:rPr>
                  <a:t>學習小技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22120" y="692280"/>
                <a:ext cx="579960" cy="424080"/>
              </a:xfrm>
              <a:prstGeom prst="rtTriangl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429264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-3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專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2597040"/>
            <a:ext cx="52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-3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何謂專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-3-2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專案的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-3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如何除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300320"/>
            <a:ext cx="7345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「專案」絕非雜亂的程式碼及檔案就能構成，而是先有特定的目的，經過系統分析及模組切割等步驟，形成有條理的程式設計計畫方案，方能稱之為「專案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443640" y="342900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26920" y="549360"/>
            <a:ext cx="1800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何謂專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042920" y="692280"/>
            <a:ext cx="7345080" cy="4968360"/>
            <a:chOff x="1042920" y="692280"/>
            <a:chExt cx="7345080" cy="4968360"/>
          </a:xfrm>
        </p:grpSpPr>
        <p:sp>
          <p:nvSpPr>
            <p:cNvPr id="102" name=""/>
            <p:cNvSpPr/>
            <p:nvPr/>
          </p:nvSpPr>
          <p:spPr>
            <a:xfrm>
              <a:off x="1042920" y="1234080"/>
              <a:ext cx="7345080" cy="442656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680">
                <a:tabLst>
                  <a:tab algn="l" pos="0"/>
                  <a:tab algn="l" pos="6465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若沒有找到「專案編譯工具列」，請您於「主要功能區」中任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680">
                <a:tabLst>
                  <a:tab algn="l" pos="0"/>
                  <a:tab algn="l" pos="6465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位置，按滑鼠右鍵一次，將出現下面的「快顯功能表」。此時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680">
                <a:tabLst>
                  <a:tab algn="l" pos="0"/>
                  <a:tab algn="l" pos="6465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請您勾選「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Build MiniBar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」選項，此工具列將會出現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680">
                <a:tabLst>
                  <a:tab algn="l" pos="0"/>
                  <a:tab algn="l" pos="64659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680">
                <a:tabLst>
                  <a:tab algn="l" pos="0"/>
                  <a:tab algn="l" pos="64659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680">
                <a:tabLst>
                  <a:tab algn="l" pos="0"/>
                  <a:tab algn="l" pos="64659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680">
                <a:tabLst>
                  <a:tab algn="l" pos="0"/>
                  <a:tab algn="l" pos="64659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680">
                <a:tabLst>
                  <a:tab algn="l" pos="0"/>
                  <a:tab algn="l" pos="64659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680">
                <a:tabLst>
                  <a:tab algn="l" pos="0"/>
                  <a:tab algn="l" pos="64659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680">
                <a:tabLst>
                  <a:tab algn="l" pos="0"/>
                  <a:tab algn="l" pos="64659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680">
                <a:tabLst>
                  <a:tab algn="l" pos="0"/>
                  <a:tab algn="l" pos="64659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042920" y="692280"/>
              <a:ext cx="2508480" cy="541440"/>
              <a:chOff x="1042920" y="692280"/>
              <a:chExt cx="2508480" cy="541440"/>
            </a:xfrm>
          </p:grpSpPr>
          <p:sp>
            <p:nvSpPr>
              <p:cNvPr id="104" name=""/>
              <p:cNvSpPr/>
              <p:nvPr/>
            </p:nvSpPr>
            <p:spPr>
              <a:xfrm>
                <a:off x="1042920" y="692280"/>
                <a:ext cx="1940760" cy="541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ff"/>
                    </a:solidFill>
                    <a:latin typeface="Arial"/>
                  </a:rPr>
                  <a:t>學習小技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59920" y="692280"/>
                <a:ext cx="591480" cy="541440"/>
              </a:xfrm>
              <a:prstGeom prst="rtTriangl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-181080" y="450864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700360" y="2924280"/>
            <a:ext cx="417672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26920" y="1125360"/>
            <a:ext cx="73454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一般而言，在專案程式寫作的過程中，錯誤總隨著程式的行數增加而增加。歸納起來，這些錯誤可分為兩類：語法錯誤及邏輯錯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所謂語法錯誤，就是在程式碼中出現未依照編譯器指定語法進行編寫的敘述。這類錯誤多半在編譯時，編譯器就會在「訊息輸出視窗」中顯示出來；所以在除錯時，這類錯誤比較明顯也比較容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而邏輯錯誤指的就是：因為程式設計師的觀念或輸入錯誤，所造成程式執行時無法預期的狀況。這類錯誤大部分都可以通過編譯器的檢查，但是於程式執行時才會出現原先無法預測的結果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6084720" y="422100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26920" y="549360"/>
            <a:ext cx="1800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專案除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26920" y="549360"/>
            <a:ext cx="1800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如何除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8720" y="1285920"/>
            <a:ext cx="691200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除錯的五個步驟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設定中斷點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(Breakp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程式碼追蹤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(Tr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監看變數值的變化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(Watc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即時更改變數，進行試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進行程式碼修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-1 Visual C++ 6.0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概論與安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2205000"/>
            <a:ext cx="52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-1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程式設計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-1-2 Visual C++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的特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-1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如何安裝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Visual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1125360"/>
            <a:ext cx="7345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Visual C++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（簡稱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VC++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）是一套功能強大與具有整合編輯器及編譯器的程式語言，今天我們所看到的許多應用軟體，大部份都是使用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C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語言來設計的，而開發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C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語言最好的軟體，我們則歸類於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Visual C++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。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Visual C++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不必使用很複雜的程式介面，開發一套程式，我們只要花少許的時間來就可以完全瞭解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Visual C++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的所有功能，所以要開發一套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C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語言程式，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Visual C++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是我們最好的選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1125360"/>
            <a:ext cx="7345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基本上電腦只看得懂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0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與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，對人類而言，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0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與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的組合是很難去理解的，於是有許多學者專家斫究開發出一套讓人類看得懂，且又能與電腦溝通的語言，這即是程式語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程式語言經過特殊專屬的編輯，將我們看得懂的語言轉換成電腦看得懂的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0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與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，讓我們可以很方便的設計一套複雜的運作方程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549360"/>
            <a:ext cx="252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程式設計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26920" y="1125360"/>
            <a:ext cx="7345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Visual C++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具有編輯與編譯的整合開發環境，它的編輯功能可以隨時讓我們瞭解到程式的架構、流程及物件的成員，而我們將程式設計完畢後，只要按下一個鈕，就能將程式碼編輯成電腦看得懂的語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在程式碼錯誤的情況下，也可以馬上知道程式碼出了什麼錯，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Visual C++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也會引導使用者到錯誤的程式碼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26920" y="549360"/>
            <a:ext cx="2808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Visual C++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的特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03280" y="1125360"/>
            <a:ext cx="6048360" cy="792360"/>
          </a:xfrm>
          <a:prstGeom prst="roundRect">
            <a:avLst>
              <a:gd name="adj" fmla="val 16667"/>
            </a:avLst>
          </a:prstGeom>
          <a:solidFill>
            <a:srgbClr val="fbdf5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-2 IDE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整合開發環境介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708280"/>
            <a:ext cx="52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-2-1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什麼是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ID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整合開發環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-2-2 Visual C++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ID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介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1-2-3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常用除錯視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26920" y="692280"/>
            <a:ext cx="7345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Visual C++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的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IDE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</a:rPr>
              <a:t>整合開發環境介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476360" y="1413000"/>
            <a:ext cx="61912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6920" y="1125360"/>
            <a:ext cx="7345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所謂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IDE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就是「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Integrated Development Environment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」的縮寫。依其原意解釋，便是將程式碼編寫（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Editor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）、編譯（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）、執行（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Execution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）以及除錯（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Debug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）等功能匯集於一身，並以單一整合性的介面，提供程式開發過程所需之相關或延伸服務，讓使用者只需此環境便可輕鬆完成程式專案。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156360" y="4221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549360"/>
            <a:ext cx="38163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什麼是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IDE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整合開發環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304920"/>
            <a:ext cx="20160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專案視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U003" descr=""/>
          <p:cNvPicPr/>
          <p:nvPr/>
        </p:nvPicPr>
        <p:blipFill>
          <a:blip r:embed="rId2"/>
          <a:stretch/>
        </p:blipFill>
        <p:spPr>
          <a:xfrm>
            <a:off x="611280" y="952560"/>
            <a:ext cx="1800000" cy="1712880"/>
          </a:xfrm>
          <a:prstGeom prst="rect">
            <a:avLst/>
          </a:prstGeom>
          <a:ln w="0">
            <a:noFill/>
          </a:ln>
        </p:spPr>
      </p:pic>
      <p:pic>
        <p:nvPicPr>
          <p:cNvPr id="62" name="U007" descr=""/>
          <p:cNvPicPr/>
          <p:nvPr/>
        </p:nvPicPr>
        <p:blipFill>
          <a:blip r:embed="rId3"/>
          <a:stretch/>
        </p:blipFill>
        <p:spPr>
          <a:xfrm>
            <a:off x="611280" y="2781360"/>
            <a:ext cx="1800000" cy="1703160"/>
          </a:xfrm>
          <a:prstGeom prst="rect">
            <a:avLst/>
          </a:prstGeom>
          <a:ln w="0">
            <a:noFill/>
          </a:ln>
        </p:spPr>
      </p:pic>
      <p:pic>
        <p:nvPicPr>
          <p:cNvPr id="63" name="U008" descr=""/>
          <p:cNvPicPr/>
          <p:nvPr/>
        </p:nvPicPr>
        <p:blipFill>
          <a:blip r:embed="rId4"/>
          <a:stretch/>
        </p:blipFill>
        <p:spPr>
          <a:xfrm>
            <a:off x="611280" y="4581360"/>
            <a:ext cx="1800000" cy="1695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84360" y="981000"/>
            <a:ext cx="54723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000000"/>
                </a:solidFill>
                <a:uFillTx/>
                <a:latin typeface="新細明體"/>
              </a:rPr>
              <a:t>類別瀏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以類別及資料結構為區分，將專案以此為架構呈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4360" y="2852640"/>
            <a:ext cx="54723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000000"/>
                </a:solidFill>
                <a:uFillTx/>
                <a:latin typeface="新細明體"/>
              </a:rPr>
              <a:t>資源瀏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將專案中所引用之圖片、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ICON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、聲音等資源製成資源檔後，將可於此進行瀏覽及編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4653000"/>
            <a:ext cx="54723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000000"/>
                </a:solidFill>
                <a:uFillTx/>
                <a:latin typeface="新細明體"/>
              </a:rPr>
              <a:t>檔案瀏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將專案所包含的檔案以樹狀結構條列，於此可了解專案中檔案引用狀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08:55:04Z</dcterms:created>
  <dc:creator>Justin</dc:creator>
  <dc:description/>
  <dc:language>en-US</dc:language>
  <cp:lastModifiedBy>Justin</cp:lastModifiedBy>
  <dcterms:modified xsi:type="dcterms:W3CDTF">2002-04-08T03:37:55Z</dcterms:modified>
  <cp:revision>29</cp:revision>
  <dc:subject/>
  <dc:title>投影片 1</dc:title>
</cp:coreProperties>
</file>