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D30-85F9-4C8D-A18E-B7ED3272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137-F15B-428E-AF80-166A75A2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E03-2E62-4461-A2E0-7D1CC22B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C9D-4D13-410F-8647-18FA2D78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A49-178B-4661-9F0C-4FA0923C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D0A-C3B4-453F-BAB6-3BD3C5F2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44A-9E83-4A11-8383-611A55C3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20B-27D7-4298-9A02-52B5483F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1BC-DA88-40DB-9478-7FDB6284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FF1-1503-480A-B56B-2919D9B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494-5CC0-4F91-9432-65DC474F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ED1-C0A6-4382-9212-620B9F5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E1E7-2DA3-4401-9CD7-921B04AA4B2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54936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１６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處理應用程式訊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230832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6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訊息處理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6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鍵盤與滑鼠訊息處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6920" y="1224000"/>
            <a:ext cx="7345440" cy="3020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若程式本身必須監控滑鼠在螢幕上任何地方，即使是在程式視窗外所發出的訊息，可以呼叫下面的這個函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Wnd* SetCapture(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而若要釋放視窗監控滑鼠在視窗外發出訊息的權利，則必須呼叫下面的這個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Windows API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函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OOL ReleaseCapture(VOID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549360"/>
            <a:ext cx="3529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擷取視窗外的滑鼠訊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084720" y="414972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6920" y="1052640"/>
            <a:ext cx="734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下表列出了幾個常見的鍵盤訊息類型與對應的處理函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，是以一組「虛擬鍵碼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Virsual Key)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來代表鍵盤上的各個按鍵，當鍵盤按鍵被按下時，便會傳給處理函式該按鍵的虛擬鍵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549360"/>
            <a:ext cx="3529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基本的鍵盤訊息類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6300720" y="4653000"/>
            <a:ext cx="2016360" cy="20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971640" y="1916280"/>
          <a:ext cx="7057800" cy="1885680"/>
        </p:xfrm>
        <a:graphic>
          <a:graphicData uri="http://schemas.openxmlformats.org/drawingml/2006/table">
            <a:tbl>
              <a:tblPr/>
              <a:tblGrid>
                <a:gridCol w="2160360"/>
                <a:gridCol w="1584360"/>
                <a:gridCol w="331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鍵盤訊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處理函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KEY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Key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鍵盤按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KEY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Key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鬆開鍵盤按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鍵盤按鍵，並傳回按鍵字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052640"/>
            <a:ext cx="73454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WM_CHA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訊息是當鍵盤按鍵被按下，然後鍵盤的虛擬鍵碼自動地被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轉換為鍵盤對應字元時所發出的訊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而處理此訊息的函式則是會接收到經過轉換後的鍵盤字元，並且會區分大小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WM_CHA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訊息是鍵盤被按下然後虛擬鍵碼轉換為對應字元的訊息，因此一個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WM_CHA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訊息其前後會伴隨著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WM_KEYDOW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WM_KEYUP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訊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549360"/>
            <a:ext cx="3529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基本的鍵盤訊息類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300720" y="46530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042920" y="981000"/>
            <a:ext cx="6841800" cy="4319280"/>
            <a:chOff x="1042920" y="981000"/>
            <a:chExt cx="6841800" cy="4319280"/>
          </a:xfrm>
        </p:grpSpPr>
        <p:sp>
          <p:nvSpPr>
            <p:cNvPr id="91" name=""/>
            <p:cNvSpPr/>
            <p:nvPr/>
          </p:nvSpPr>
          <p:spPr>
            <a:xfrm>
              <a:off x="1042920" y="1451880"/>
              <a:ext cx="6841800" cy="38484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將點陣圖的內容複製到螢幕上，俗稱「貼圖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而上一個範例中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物件所呼叫將點陣圖複製到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幕上的「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BitBlt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」，便是最常用的貼圖函式，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功能可將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物件中的點陣圖複製或經過一些特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運算，貼到另一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當中。如上個範例中，便是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儲存點陣圖案暫存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的內容複製到代表視窗區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中，以在視窗中顯示圖形，底下是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BitBlt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式的原型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042920" y="981000"/>
              <a:ext cx="2336760" cy="470520"/>
              <a:chOff x="1042920" y="981000"/>
              <a:chExt cx="2336760" cy="470520"/>
            </a:xfrm>
          </p:grpSpPr>
          <p:sp>
            <p:nvSpPr>
              <p:cNvPr id="93" name=""/>
              <p:cNvSpPr/>
              <p:nvPr/>
            </p:nvSpPr>
            <p:spPr>
              <a:xfrm>
                <a:off x="1042920" y="981000"/>
                <a:ext cx="1807920" cy="470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28520" y="981000"/>
                <a:ext cx="551160" cy="47052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042920" y="981000"/>
            <a:ext cx="6841800" cy="4319280"/>
            <a:chOff x="1042920" y="981000"/>
            <a:chExt cx="6841800" cy="4319280"/>
          </a:xfrm>
        </p:grpSpPr>
        <p:sp>
          <p:nvSpPr>
            <p:cNvPr id="97" name=""/>
            <p:cNvSpPr/>
            <p:nvPr/>
          </p:nvSpPr>
          <p:spPr>
            <a:xfrm>
              <a:off x="1042920" y="1451880"/>
              <a:ext cx="6841800" cy="38484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042920" y="981000"/>
              <a:ext cx="2336760" cy="470520"/>
              <a:chOff x="1042920" y="981000"/>
              <a:chExt cx="2336760" cy="470520"/>
            </a:xfrm>
          </p:grpSpPr>
          <p:sp>
            <p:nvSpPr>
              <p:cNvPr id="99" name=""/>
              <p:cNvSpPr/>
              <p:nvPr/>
            </p:nvSpPr>
            <p:spPr>
              <a:xfrm>
                <a:off x="1042920" y="981000"/>
                <a:ext cx="1807920" cy="470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8520" y="981000"/>
                <a:ext cx="551160" cy="47052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697800" cy="367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826920" y="620640"/>
            <a:ext cx="7489800" cy="5040000"/>
            <a:chOff x="826920" y="620640"/>
            <a:chExt cx="7489800" cy="5040000"/>
          </a:xfrm>
        </p:grpSpPr>
        <p:sp>
          <p:nvSpPr>
            <p:cNvPr id="104" name=""/>
            <p:cNvSpPr/>
            <p:nvPr/>
          </p:nvSpPr>
          <p:spPr>
            <a:xfrm>
              <a:off x="826920" y="1170360"/>
              <a:ext cx="7489800" cy="44902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下表列出各個參數的意義說明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826920" y="620640"/>
              <a:ext cx="2558160" cy="549360"/>
              <a:chOff x="826920" y="620640"/>
              <a:chExt cx="2558160" cy="549360"/>
            </a:xfrm>
          </p:grpSpPr>
          <p:sp>
            <p:nvSpPr>
              <p:cNvPr id="106" name=""/>
              <p:cNvSpPr/>
              <p:nvPr/>
            </p:nvSpPr>
            <p:spPr>
              <a:xfrm>
                <a:off x="826920" y="620640"/>
                <a:ext cx="1979280" cy="549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81720" y="620640"/>
                <a:ext cx="603360" cy="54936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8" name=""/>
          <p:cNvGraphicFramePr/>
          <p:nvPr/>
        </p:nvGraphicFramePr>
        <p:xfrm>
          <a:off x="1332000" y="1989000"/>
          <a:ext cx="6480000" cy="3286440"/>
        </p:xfrm>
        <a:graphic>
          <a:graphicData uri="http://schemas.openxmlformats.org/drawingml/2006/table">
            <a:tbl>
              <a:tblPr/>
              <a:tblGrid>
                <a:gridCol w="1000080"/>
                <a:gridCol w="547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參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要貼到目的地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座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要貼到目的地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座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點陣圖的寬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點陣圖的高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rc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，此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儲存要貼上的點陣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S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點陣圖左上點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座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S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點陣圖左上點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座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w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ter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運算值，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CCOPY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示為直接複製點陣圖內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-108000" y="458136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826920" y="620640"/>
            <a:ext cx="7489800" cy="5040000"/>
            <a:chOff x="826920" y="620640"/>
            <a:chExt cx="7489800" cy="5040000"/>
          </a:xfrm>
        </p:grpSpPr>
        <p:sp>
          <p:nvSpPr>
            <p:cNvPr id="111" name=""/>
            <p:cNvSpPr/>
            <p:nvPr/>
          </p:nvSpPr>
          <p:spPr>
            <a:xfrm>
              <a:off x="826920" y="1170360"/>
              <a:ext cx="7489800" cy="44902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下表列出各個參數的意義說明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826920" y="620640"/>
              <a:ext cx="2558160" cy="549360"/>
              <a:chOff x="826920" y="620640"/>
              <a:chExt cx="2558160" cy="549360"/>
            </a:xfrm>
          </p:grpSpPr>
          <p:sp>
            <p:nvSpPr>
              <p:cNvPr id="113" name=""/>
              <p:cNvSpPr/>
              <p:nvPr/>
            </p:nvSpPr>
            <p:spPr>
              <a:xfrm>
                <a:off x="826920" y="620640"/>
                <a:ext cx="1979280" cy="549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81720" y="620640"/>
                <a:ext cx="603360" cy="54936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5" name=""/>
          <p:cNvGraphicFramePr/>
          <p:nvPr/>
        </p:nvGraphicFramePr>
        <p:xfrm>
          <a:off x="1332000" y="1989000"/>
          <a:ext cx="6480000" cy="3286440"/>
        </p:xfrm>
        <a:graphic>
          <a:graphicData uri="http://schemas.openxmlformats.org/drawingml/2006/table">
            <a:tbl>
              <a:tblPr/>
              <a:tblGrid>
                <a:gridCol w="1000080"/>
                <a:gridCol w="547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參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要貼到目的地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座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要貼到目的地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座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點陣圖的寬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點陣圖的高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rc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，此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儲存要貼上的點陣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S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點陣圖左上點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座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S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來源點陣圖左上點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座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w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ter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運算值，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CCOPY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示為直接複製點陣圖內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108000" y="458136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826920" y="620640"/>
            <a:ext cx="7489800" cy="5040000"/>
            <a:chOff x="826920" y="620640"/>
            <a:chExt cx="7489800" cy="5040000"/>
          </a:xfrm>
        </p:grpSpPr>
        <p:sp>
          <p:nvSpPr>
            <p:cNvPr id="118" name=""/>
            <p:cNvSpPr/>
            <p:nvPr/>
          </p:nvSpPr>
          <p:spPr>
            <a:xfrm>
              <a:off x="826920" y="1170360"/>
              <a:ext cx="7489800" cy="44902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dc.BitBlt(20,15,50,50,mdc,10,10,SRCCOPY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826920" y="620640"/>
              <a:ext cx="2558160" cy="549360"/>
              <a:chOff x="826920" y="620640"/>
              <a:chExt cx="2558160" cy="549360"/>
            </a:xfrm>
          </p:grpSpPr>
          <p:sp>
            <p:nvSpPr>
              <p:cNvPr id="120" name=""/>
              <p:cNvSpPr/>
              <p:nvPr/>
            </p:nvSpPr>
            <p:spPr>
              <a:xfrm>
                <a:off x="826920" y="620640"/>
                <a:ext cx="1979280" cy="549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81720" y="620640"/>
                <a:ext cx="603360" cy="54936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-108000" y="4581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989000"/>
          <a:ext cx="5040360" cy="33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1989000"/>
                    <a:ext cx="50403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443640" y="2420280"/>
            <a:ext cx="1800360" cy="6426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暫存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中所儲存的點陣圖內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306864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280600"/>
            <a:ext cx="1273320" cy="6426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代表視窗區域的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2924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6-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訊息處理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575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6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使用訊息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6-1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訊息處理函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319040"/>
            <a:ext cx="734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訊息表」的使用方式看似複雜且模糊，但只要您把握下面兩點原則，便可豁然開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類別的定義檔中先宣告訊息表與訊息處理函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類別的實作檔中定義訊息表的內容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包含所要處理的訊息並指定處理函式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56360" y="3573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使用訊息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1031760"/>
            <a:ext cx="73454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訊息的類型大致可分為兩種：一是在物件上可能產生的事件所發出的訊息，一則是指令訊息，指令訊息是指執行了功能表指令、按下工具列圖示按鈕等所發出的訊息，我們可執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lassWizard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來查看所有的訊息類型與指定要處理的訊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使用訊息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3141720"/>
          <a:ext cx="38862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141720"/>
                    <a:ext cx="3886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635280" y="4294080"/>
          <a:ext cx="3829320" cy="143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5280" y="4294080"/>
                    <a:ext cx="382932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877080" y="458136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031760"/>
            <a:ext cx="734544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lassWizard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功能，只要在某一個所要處理的訊息上快按滑鼠兩下，便可在程式中設定處理該訊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新增訊息處理函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指令訊息處理函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刪除訊息處理函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使用訊息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940360" y="3500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6-2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鍵盤與滑鼠訊息處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2492280"/>
            <a:ext cx="57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6-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基本的滑鼠訊息類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6-2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擷取視窗外的滑鼠訊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6-2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基本的鍵盤訊息類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1224000"/>
            <a:ext cx="734544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MF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也定義了這些訊息的處理函式，下表我們先列出各個滑鼠訊息與相關處理函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49360"/>
            <a:ext cx="324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基本的滑鼠訊息類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87280" y="2193840"/>
          <a:ext cx="6624720" cy="3286080"/>
        </p:xfrm>
        <a:graphic>
          <a:graphicData uri="http://schemas.openxmlformats.org/drawingml/2006/table">
            <a:tbl>
              <a:tblPr/>
              <a:tblGrid>
                <a:gridCol w="2792520"/>
                <a:gridCol w="2103480"/>
                <a:gridCol w="172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滑鼠訊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處理函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LBUTTONDBC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ButtonDblC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雙按滑鼠左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LBUTTON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Button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滑鼠左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LBUTTON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Button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鬆開滑鼠左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RBUTTONDBC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RButtonDblC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雙按滑鼠右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RBUTTON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RButton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滑鼠右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RBUTTON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RButton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鬆開滑鼠右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MOUSE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Mouse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滑鼠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_MOUSEWH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MouseWh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捲動滾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7128000" y="4292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1224000"/>
            <a:ext cx="7345440" cy="338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上表所列每一種滑鼠訊息的處理函式都必須傳入參數，其格式除了處理滑鼠滾輪訊息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OnMouseWheel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外，其餘的都相同，我們舉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OnMouseMov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函式為例來做說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oid AppFrame::OnMouseMove(UINT nFlags, CPoint poi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在此加入滑鼠事件發生時所要執行的程式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FrameWnd::OnMouseMove(nFlags, po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549360"/>
            <a:ext cx="3024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基本的滑鼠訊息類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227640" y="4292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1224000"/>
            <a:ext cx="7345440" cy="3935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這個函式必須傳入兩個參數：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nFlag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為滑鼠事件發生的同時，若有伴隨其它按鍵被按下，則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nFlag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值，會是代表這些按鍵的「虛擬碼」，這些值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549360"/>
            <a:ext cx="3024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基本的滑鼠訊息類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187280" y="2712960"/>
          <a:ext cx="5616360" cy="2371680"/>
        </p:xfrm>
        <a:graphic>
          <a:graphicData uri="http://schemas.openxmlformats.org/drawingml/2006/table">
            <a:tbl>
              <a:tblPr/>
              <a:tblGrid>
                <a:gridCol w="3133800"/>
                <a:gridCol w="2482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虛擬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K_CONTROL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K_LBUTTON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滑鼠左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K_MBUTTON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滑鼠中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K_RBUTTON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滑鼠右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K_SHIFT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4437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10T05:51:25Z</dcterms:modified>
  <cp:revision>88</cp:revision>
  <dc:subject/>
  <dc:title>投影片 1</dc:title>
</cp:coreProperties>
</file>