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80D-EADF-4FDC-B09B-1BD296E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645-29BF-48BA-A364-87A2008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80C-71E6-4FE2-A132-7721CC11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228-9671-46BE-864D-E6D0CB94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B32-AA3D-4609-B5A7-4DC90404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535-B182-4BC4-A937-E08694F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97F-050C-4621-8D76-09EBB25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C7B-C73B-4F31-A597-7A045721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AC5-E274-4D8F-A7A1-187B8D2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E3E-4CAF-4D81-8637-1CFB7D6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8F3-9BBA-42A2-9A9C-156EB9C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981-8CDB-4D99-ABBA-19C4FF9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55DC-B6A2-459D-A8E4-3381FAB5EAA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３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樣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230832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類別與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實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42920" y="981000"/>
            <a:ext cx="6841800" cy="3168720"/>
            <a:chOff x="1042920" y="981000"/>
            <a:chExt cx="6841800" cy="3168720"/>
          </a:xfrm>
        </p:grpSpPr>
        <p:sp>
          <p:nvSpPr>
            <p:cNvPr id="83" name=""/>
            <p:cNvSpPr/>
            <p:nvPr/>
          </p:nvSpPr>
          <p:spPr>
            <a:xfrm>
              <a:off x="1042920" y="1326600"/>
              <a:ext cx="6841800" cy="28231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當物件成立的時候，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this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則為此物件的指標，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有的成員都會自動將其所屬的物作指標存入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t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042920" y="981000"/>
              <a:ext cx="2336760" cy="345600"/>
              <a:chOff x="1042920" y="981000"/>
              <a:chExt cx="2336760" cy="345600"/>
            </a:xfrm>
          </p:grpSpPr>
          <p:sp>
            <p:nvSpPr>
              <p:cNvPr id="85" name=""/>
              <p:cNvSpPr/>
              <p:nvPr/>
            </p:nvSpPr>
            <p:spPr>
              <a:xfrm>
                <a:off x="1042920" y="981000"/>
                <a:ext cx="1807920" cy="345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28520" y="981000"/>
                <a:ext cx="551160" cy="34560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98560" y="1355760"/>
            <a:ext cx="734544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與類別繼承的功能都很強大，可是它們用在一些特殊情況下，有時候卻很不合適用，我們可以將樣版與類別繼承合起來一起用來解決一些問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98560" y="1355760"/>
            <a:ext cx="7345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樣版類別的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目的是要讓程式功能更強大而已，而且程式的體積很會比較小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549360"/>
            <a:ext cx="3457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類別的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Friend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3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樣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3800" y="2639880"/>
            <a:ext cx="57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773360"/>
            <a:ext cx="777708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樣版就如同一個模子，從現實的角度來看，我們將石膏與水混合後，在加入模子中，它就能印出特定的形狀出來，而在樣版的觀念裡，石膏與水是資料型態，產生出來的成品則是類別或函數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84720" y="350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319040"/>
            <a:ext cx="7345440" cy="320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樣版函數即是利用樣版的觀念來撰寫函數，是讓函數能夠以相同的桯式碼，處理不同的資料型態，節省撰寫同餘程式碼的情況。樣版函數的定義如下列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template &lt;class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參數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回傳資料的型態 函數名稱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1125360"/>
            <a:ext cx="7345440" cy="442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在可以將類別定義成樣版類別，讓傳入的資料可以為任意型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(T y){x=y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show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out&lt;&lt;"x: "&lt;&lt;x&lt;&lt;"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355760"/>
            <a:ext cx="734544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接下來，我們要宣告類別變數，其宣告方式與我們以往在宣告類別的時候不太一樣。它的宣告語法如下列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名稱（參數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3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樣版類別成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2349360"/>
            <a:ext cx="575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鏈結串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類別成員的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3-2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樣版類別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1355760"/>
            <a:ext cx="777744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鏈結串列就是將每一個單位的資料串連起來，而型成一個大型的資料庫，鏈結串列的資料可以從第一個新增刪除、最後一個新增刪除以及從中間新增刪除，非常符合資料處理的原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鏈結串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8720" y="3645000"/>
            <a:ext cx="79200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37200" y="3645000"/>
            <a:ext cx="62388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14760" y="3645000"/>
            <a:ext cx="622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03520" y="3645000"/>
            <a:ext cx="62388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645000"/>
            <a:ext cx="622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65920" y="3645000"/>
            <a:ext cx="62208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42040" y="3645000"/>
            <a:ext cx="623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3645000"/>
            <a:ext cx="62244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645000"/>
            <a:ext cx="623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1" idx="3"/>
          </p:cNvCxnSpPr>
          <p:nvPr/>
        </p:nvCxnSpPr>
        <p:spPr>
          <a:xfrm flipH="1">
            <a:off x="1620000" y="3860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1" name=""/>
          <p:cNvCxnSpPr>
            <a:stCxn id="64" idx="2"/>
            <a:endCxn id="63" idx="2"/>
          </p:cNvCxnSpPr>
          <p:nvPr/>
        </p:nvCxnSpPr>
        <p:spPr>
          <a:xfrm flipH="1" rot="16200000">
            <a:off x="3420000" y="3572280"/>
            <a:ext cx="2520" cy="10101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7" idx="2"/>
          </p:cNvCxnSpPr>
          <p:nvPr/>
        </p:nvCxnSpPr>
        <p:spPr>
          <a:xfrm flipH="1" rot="16200000">
            <a:off x="5100120" y="3524760"/>
            <a:ext cx="2520" cy="11055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2"/>
            <a:endCxn id="69" idx="2"/>
          </p:cNvCxnSpPr>
          <p:nvPr/>
        </p:nvCxnSpPr>
        <p:spPr>
          <a:xfrm flipH="1" rot="16200000">
            <a:off x="6744240" y="3608640"/>
            <a:ext cx="2520" cy="9374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84360" y="3206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位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98560" y="1355760"/>
            <a:ext cx="734544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樣版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emplate&lt;class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參數型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796000" y="299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549360"/>
            <a:ext cx="331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樣版類別成員的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02:26:58Z</dcterms:modified>
  <cp:revision>77</cp:revision>
  <dc:subject/>
  <dc:title>投影片 1</dc:title>
</cp:coreProperties>
</file>