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430-AA4E-4927-8DC2-F3DD8211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70D-830E-4068-880F-877B297A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4DD-90A3-42AC-9934-902AF37E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44F-60EE-41E9-B92C-D7ACBB9B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550-DB68-44C4-9A03-DE844F59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6CE-CC24-42F4-89A3-3B40B5B4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604-07AB-451C-BC68-4BA4FBD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A61-558A-4124-B7B3-65B882D2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05D-4F07-4DF4-9C65-C6DBA52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F60-42DA-4A56-8381-26E98AE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692-1D0C-48B3-9104-4AEF0D8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9B7-11B6-493E-9E42-6EB5110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CBE-B599-422D-9F54-2F70BB9EA21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4936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１１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類別關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2133720"/>
            <a:ext cx="525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繼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與繼承的關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多重繼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朋友關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1-3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多重繼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381400"/>
            <a:ext cx="52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3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多重繼承的語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3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多重繼承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函數名稱重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3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多重繼承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資料名稱重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052640"/>
            <a:ext cx="7777080" cy="365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新細明體"/>
              </a:rPr>
              <a:t>多重繼承就是可以繼承一個以上的「父類別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47640" y="1844640"/>
            <a:ext cx="136872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部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844640"/>
            <a:ext cx="136872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部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844640"/>
            <a:ext cx="136872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部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2781360"/>
            <a:ext cx="136872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企業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3645000"/>
            <a:ext cx="136872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產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9" idx="2"/>
            <a:endCxn id="72" idx="0"/>
          </p:cNvCxnSpPr>
          <p:nvPr/>
        </p:nvCxnSpPr>
        <p:spPr>
          <a:xfrm>
            <a:off x="2232000" y="2276640"/>
            <a:ext cx="19454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2"/>
            <a:endCxn id="72" idx="0"/>
          </p:cNvCxnSpPr>
          <p:nvPr/>
        </p:nvCxnSpPr>
        <p:spPr>
          <a:xfrm>
            <a:off x="4176360" y="227664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1" idx="2"/>
            <a:endCxn id="72" idx="0"/>
          </p:cNvCxnSpPr>
          <p:nvPr/>
        </p:nvCxnSpPr>
        <p:spPr>
          <a:xfrm flipH="1">
            <a:off x="4176000" y="2276640"/>
            <a:ext cx="18723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2" idx="2"/>
            <a:endCxn id="73" idx="0"/>
          </p:cNvCxnSpPr>
          <p:nvPr/>
        </p:nvCxnSpPr>
        <p:spPr>
          <a:xfrm>
            <a:off x="4176360" y="321300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26920" y="1319040"/>
            <a:ext cx="7345440" cy="3780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宣告的方式如下所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 : public B , public C , 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多重繼承也是有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這三種方式，而它也必須遵守這三種方式繼承的規則，如下列程式碼所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 : private B , private C , public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15636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6920" y="549360"/>
            <a:ext cx="2592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多重繼承的語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1319040"/>
            <a:ext cx="7345440" cy="302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多重繼承裡，我們要特別注意的是盡量避免有重覆的名稱出現，因為它是不能改變其函數功能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如果真的不幸發生函數名稱重覆的情形時，我們只有用另一種表示法來避免錯誤發生。如下列程式碼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 a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a.B::show();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呼叫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的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函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30072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549360"/>
            <a:ext cx="338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多重繼承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函數名稱重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319040"/>
            <a:ext cx="734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不只是函數名稱有可能重覆，連資料成員都有可能會重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另一種階層式的繼承，其繼承的階層方式如下圖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30072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549360"/>
            <a:ext cx="338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多重繼承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資料名稱重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5080" y="4941720"/>
            <a:ext cx="129564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720" y="4078440"/>
            <a:ext cx="129564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9440" y="4078440"/>
            <a:ext cx="129528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5080" y="3213000"/>
            <a:ext cx="1295640" cy="43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90" idx="2"/>
            <a:endCxn id="88" idx="0"/>
          </p:cNvCxnSpPr>
          <p:nvPr/>
        </p:nvCxnSpPr>
        <p:spPr>
          <a:xfrm flipH="1">
            <a:off x="2267640" y="3645000"/>
            <a:ext cx="1585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0" idx="2"/>
            <a:endCxn id="89" idx="0"/>
          </p:cNvCxnSpPr>
          <p:nvPr/>
        </p:nvCxnSpPr>
        <p:spPr>
          <a:xfrm>
            <a:off x="3852360" y="3645000"/>
            <a:ext cx="1585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2"/>
            <a:endCxn id="87" idx="0"/>
          </p:cNvCxnSpPr>
          <p:nvPr/>
        </p:nvCxnSpPr>
        <p:spPr>
          <a:xfrm>
            <a:off x="2268000" y="4509720"/>
            <a:ext cx="1585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2"/>
            <a:endCxn id="87" idx="0"/>
          </p:cNvCxnSpPr>
          <p:nvPr/>
        </p:nvCxnSpPr>
        <p:spPr>
          <a:xfrm flipH="1">
            <a:off x="3852000" y="4509720"/>
            <a:ext cx="1585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1-4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朋友關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381400"/>
            <a:ext cx="525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4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朋友關係的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4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朋友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4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朋友函數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4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朋友函數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一般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4-5 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漏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131904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與類別的繼承方式，除了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之外，其它的函數成員及資料成員都會被衍生類別所繼承下來，而朋友關係的這種觀念則打破了繼承的這種關係，不管是類別或是函數，只要是被當成朋友關係來看的話，類別的所有成員都可被任意存取使用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131904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從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來看，我們可以把朋友關係定義成兩種：一種是朋友類別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Friend Clas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）、一種是朋友函數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Friend Functio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從朋友類別與朋友函數來看，只要是它們為某一個類別的朋友，它們的所有資料成員及函數成員都能被這一個類別所存取使用（包含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方式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12000" y="4149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668160"/>
            <a:ext cx="2665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朋友關係的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1319040"/>
            <a:ext cx="734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所謂朋友類別就是某個類別的整個成員都為另一個類別的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3068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6920" y="668160"/>
            <a:ext cx="2665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朋友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131904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某一類別是可以被另一個類別看做是整個朋友類別來看，可是我們並不一定要將整個類別當成朋友，我們可以提取某些部份的函數來當成朋友函數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朋友函數與朋友類別一樣，它可以被任意存取使用，不一定是要宣告成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方式才可以，就連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也一樣可以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668160"/>
            <a:ext cx="3024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朋友函數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類別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1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繼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349360"/>
            <a:ext cx="57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繼承的分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1-1-2 privat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319040"/>
            <a:ext cx="734544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在繼承的觀念裡，我們又可將繼承出為三種方式，分別為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」、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」及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」，而使用這三種方式都可繼承父類別的類別成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有五種情形是無法繼承父類別的類別成員，如下列幾項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父類別的建構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父類別的解構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父類別的朋友類別與朋友函數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父類別的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資料成員與成員函數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父類別的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Operator assignment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運算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繼承的分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319040"/>
            <a:ext cx="734544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繼承的語法定義如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class A :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繼承方式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B  //B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類別為父類別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基礎類別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)  A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為子類別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衍生類別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在這裡定義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類別特有的資料成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其實繼承的語法很簡單，只是說在繼承類別的時候，如果沒有好好的規劃繼承的流程，會很容易發生類別搞混的現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51640" y="4365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繼承的分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1319040"/>
            <a:ext cx="734544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，其宣告方式如下表所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class A : private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此方式的類別解釋成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類別繼承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類別的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之資料類別成員，繼承至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類別中將存取權限變為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549360"/>
            <a:ext cx="4249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rotected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1319040"/>
            <a:ext cx="734544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其宣告方式如下表所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 : protected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此方式的類別解釋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類別繼承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類別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之資料類別成員，繼承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類別中將存取權限變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549360"/>
            <a:ext cx="4249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rotected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319040"/>
            <a:ext cx="734544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其宣告方式如下表所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 : public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此方式的類別解釋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類別繼承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類別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之資料類別成員，繼承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類別中的存取權限則不變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549360"/>
            <a:ext cx="4249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rotected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1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成員與繼承的關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637000"/>
            <a:ext cx="77770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如果資料成員的名稱相同時，編譯器會將相同名稱的資料成員當成是擴充用，原因是繼承可能沒有辦法完全的適用於衍生類別中，所以我們將繼承下來的成員函數重新定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1319040"/>
            <a:ext cx="734544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我們將類別的資料成員，歸納成有三種功能，分別為「增加」、「取代」及「擴充」等功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增加功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這種功能可稱得上是衍生類別的基本功能，它能增加基礎類別所沒有的資料成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取代功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有許多資料成員被繼承下來後，可能對於衍生類別來說，不符合用，所以衍生類別必須對繼承下來的成員函數加以改變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156360" y="47260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549360"/>
            <a:ext cx="2592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資料成員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10T01:44:27Z</dcterms:modified>
  <cp:revision>75</cp:revision>
  <dc:subject/>
  <dc:title>投影片 1</dc:title>
</cp:coreProperties>
</file>