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9A4-D57A-4CF4-B13B-63A7D247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5EF-0729-4044-A6A9-B552C8B7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32B3-B90C-4753-8E54-799A9852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CA5D-8E39-4728-8607-04077A29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88CB-1383-48C6-A35B-54BF8126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441D-88F4-4389-8D6A-657A0F5E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806-F596-46F2-B233-72A535C0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403F-8666-49F9-91AB-28E567B3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80CB-6DFF-4E62-9DBC-8A9D425A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B6F-F31B-4D5A-88A9-69F2CA36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0E2F-570C-4834-93A8-D0364318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9870-2E5B-4803-B30B-38316683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8FC1-0C94-430B-A488-64CE34DF322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549360"/>
            <a:ext cx="6048360" cy="122400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第１０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類別定義與物件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2481120"/>
            <a:ext cx="5256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類別結構與物件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物件的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再談建構子與解構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4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深入成員函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6720" y="2468520"/>
            <a:ext cx="5256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5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靜態成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6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物件的指標運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7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成員函式多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8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運算子多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26920" y="981000"/>
            <a:ext cx="7345440" cy="2959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與宣告其他一般的資料型態變數陣列相同，宣告物件陣列，也是在物件名稱之後加上陣列符號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[]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即可，當中填入陣列大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宣告格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類別名稱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定義類別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類別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為資料型態，宣告物件陣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類別名稱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物件陣列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陣列大小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508720" y="414972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26920" y="549360"/>
            <a:ext cx="23767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宣告物件陣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6920" y="1433520"/>
            <a:ext cx="73454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延續上面的宣告格式，物件陣列中第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個元素的成員存取格式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物件陣列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[n]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屬性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物件陣列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[n]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成員函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參數序列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364000" y="314172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26920" y="549360"/>
            <a:ext cx="23767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宣告物件陣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6920" y="1433520"/>
            <a:ext cx="734544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與宣告其他一般的資料型態指標變數相同，宣告物件指標，也是在物件名稱之前加上識別符號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宣告格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定義類別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（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以類別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為資料型態，宣告物件指標名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 *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物件指標名稱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364000" y="414972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26920" y="549360"/>
            <a:ext cx="23767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宣告指標物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26920" y="1433520"/>
            <a:ext cx="73454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與實體物件引用不同處，在於我們以成員選擇運算子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，來存取物件指標之公用成員。延續上面的宣告格式，物件指標的成員存取格式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物件指標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屬性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物件指標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成員函式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參數序列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219640" y="314172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26920" y="549360"/>
            <a:ext cx="23767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宣告指標物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26920" y="1433520"/>
            <a:ext cx="73454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若我們將物件當成「變數」，類別當成「資料型態」，那麼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及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運算子在物件配置的用法就跟一般變數一樣，其使用格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 *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物件指標名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物件指標名稱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= new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elete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物件指標名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物件指標名稱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= new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[m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elete []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物件指標名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796000" y="429264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26920" y="549360"/>
            <a:ext cx="345780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動態物件的記憶體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0-3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再談建構子與解構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95640" y="2381400"/>
            <a:ext cx="5256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3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建構子的宣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3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建構子的種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3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解構子的宣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3-4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建構子與解構子的執行順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3-5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物件參數、傳回值及物件指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26920" y="1433520"/>
            <a:ext cx="734544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建構子的基本作用，就在於當物件生成時，對其中的屬性，甚至於整個物件進行某些初始化的動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若我們將不同型態的建構子進行統合整理，可得到下面的宣告格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參數序列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成員初始化序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…程式碼本體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796000" y="429264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6920" y="549360"/>
            <a:ext cx="230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建構子的宣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26920" y="1433520"/>
            <a:ext cx="7345440" cy="2166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雖然建構子是成員函式之一，但是請注意它一定是屬於公用成員，必須宣告在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之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再者，它的函式名稱必定是所屬類別之名稱，函式名稱前面也沒有「資料型態識別字」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表示沒有回傳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在建構子函式名稱後可加上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成員初始化序列」，為成員屬性設定初始值。「成員初始化序列（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Member Initialization List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）」的詳細格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成員屬性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1(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初始值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1),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成員屬性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2(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初始值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2), ……,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成員屬性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n(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初始值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867280" y="465300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26920" y="549360"/>
            <a:ext cx="230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建構子的宣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55640" y="1052640"/>
            <a:ext cx="7345440" cy="4606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預設建構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謂「預設建構子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efault Constructor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」，就是指建構子函式並不須指定參數就可被驅動，但並非不接受參數，而只是接受已設定初始值的參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格式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（…程式碼本體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格式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資料型態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參數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1 =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預設值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資料型態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參數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2 =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預設值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2, …,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資料型態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參數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n =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預設值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（…程式碼本體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867280" y="479736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26920" y="549360"/>
            <a:ext cx="230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建構子的種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55640" y="1052640"/>
            <a:ext cx="7345440" cy="2410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參數化建構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參數化建構子指的是僅單純地將參數傳入進行屬性的初始化，且參數與建構子之類別型態不同。在這種建構子中，參數可以是一般的資料型態變數、結構變數或是其他類別型態物件，其格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資料型態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參數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資料型態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參數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1, …,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資料型態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參數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（…程式碼本體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940360" y="393372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26920" y="549360"/>
            <a:ext cx="230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建構子的種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0-1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類別定義與物件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2349360"/>
            <a:ext cx="5759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1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何謂「類別」？何謂「物件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1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類別結構格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1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範圍指定運算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1-4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成員選擇運算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1-5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簡單的物件應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55640" y="1290600"/>
            <a:ext cx="7345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複製建構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編譯器讓我們可以直接在物件初始化時，直接將另一個同類別型別物件當成參數傳入，而我們不需另外宣告這一建構子。此一建構子，我們稱為隱含的「複製建構子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opy Constructor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867280" y="29973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26920" y="549360"/>
            <a:ext cx="230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建構子的種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5640" y="968400"/>
            <a:ext cx="7345440" cy="3691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轉型建構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我們定義一個類別的目的，是為了針對一種資料型態結構（包含一般資料型態）進行處理，而且此類別的建構子接受的參數只有一個，就是該資料結構型別，這個建構子就是「轉型建構子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其類別定義格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資料型態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參數名稱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（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轉型敘述句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（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651640" y="4437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6920" y="549360"/>
            <a:ext cx="230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建構子的種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55640" y="968400"/>
            <a:ext cx="73454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我們必須在釋放物件前，先行將之前配置之記憶體釋放，這時就必須用到「解構子（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Destructor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）」，因為它在物件釋放時將被自動驅動，簡單地說，當物件以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指令釋放時，將執行其「解構子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下面是解構子的宣告格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…程式碼本體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651640" y="4437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26920" y="549360"/>
            <a:ext cx="230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解構子的宣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55640" y="1362240"/>
            <a:ext cx="7345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解構子也是成員函式之一，它也只能屬於公用成員，必須宣告在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之後。它的函式名稱跟建構子一樣也是所屬類別之名稱但是得在之前加上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，函式名稱前面同樣沒有「資料型態識別字」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表示沒有回傳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508720" y="314172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26920" y="549360"/>
            <a:ext cx="230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解構子的宣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0-4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深入成員函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381400"/>
            <a:ext cx="5256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4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類別成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4-2 this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指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4-3 inlin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關鍵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4-4 const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關鍵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4-5 mutabl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關鍵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55640" y="1052640"/>
            <a:ext cx="73454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「成員函式」是每個「類別」僅有唯一的一份，所有屬於相同類別的物件均共用這一份，這是基於「成員函式」只是為了處理資料，只要更換其處理的資料，其輸出就會不同。所以不需每一個「物件」均配置一份，這樣只會造成記憶體的浪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另外，「靜態屬性」亦是如此，因為它是為了存放所有同類別型態物件的共通資料所存在，「靜態屬性」的記憶體配置是「所有同一類別的物件共享一塊記憶體空間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5435640" y="458136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26920" y="549360"/>
            <a:ext cx="230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類別成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55640" y="1052640"/>
            <a:ext cx="734544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549360"/>
            <a:ext cx="230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類別成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71640" y="1547640"/>
          <a:ext cx="7056360" cy="3105000"/>
        </p:xfrm>
        <a:graphic>
          <a:graphicData uri="http://schemas.openxmlformats.org/drawingml/2006/table">
            <a:tbl>
              <a:tblPr/>
              <a:tblGrid>
                <a:gridCol w="1225440"/>
                <a:gridCol w="1898640"/>
                <a:gridCol w="3932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成員名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置記憶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說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非靜態屬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每一個「物件」配置一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為了保留每一個物件的特質，所以每一個物件配置一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靜態屬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每一個「類別」配置一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因為它負責存放所有同類別型態之物件的共同存取資料，我們於稍後小節將針對靜態變數進行討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成員函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每一個「類別」配置一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為了節省記憶體空間，每一個類別僅配置一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659640" y="443700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1352520"/>
            <a:ext cx="73454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指標是類別成員函式中，用來區分呼叫物件身分的一種特殊指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當類別的成員函式被呼叫時，呼叫來源物件的指標將傳入函式，讓成員函式用以存取此物件的屬性或成員函式。而這個指標，就是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指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549360"/>
            <a:ext cx="230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this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」指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940360" y="364500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55640" y="981000"/>
            <a:ext cx="73454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函式的作用與巨集有點像，當編譯器於編譯時遇到呼叫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函式的程式碼敘述時，將會自動於此處把該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函式複製過來，進行展開的動作。而在執行階段，程式執行到這裡，就不再呼叫函式，而是直接執行原來函式中的動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若函式是屬於必須加強它的效率，甚至是整個程式效能的關鍵時，您可以考慮將它變成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函式，但是此函式最好先經過「塑身」，只留真正影響效能的部分，其餘部分進行刪除或外移到其他程式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549360"/>
            <a:ext cx="230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inline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關鍵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5940360" y="465300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1265400"/>
            <a:ext cx="73454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中，當類別的成員函式的程式碼本體是宣告在類別定義區中時，那麼編譯器於編譯階段時會將這些成員函式自動當成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函式來處理，也就是說只要將要變成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函式的成員函式宣告在類別定義區中，便不需在前面再加上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549360"/>
            <a:ext cx="230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inline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關鍵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364000" y="335772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26920" y="1319040"/>
            <a:ext cx="73454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若我們將「類別」當成是「自定的資料型態」，而「物件」當成「變數」，那就簡單的多了！換句話說，只要先把「類別」定義好，接下來，完全不用去管它到底是什麼，一律視為與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、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一樣，當成基本資料型態拿來宣告變數，這樣產生的變數就是「物件」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940360" y="357336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26920" y="549360"/>
            <a:ext cx="468180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何謂「類別」？何謂「物件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1265400"/>
            <a:ext cx="73454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如果我們想將之前的舊類別中，程式碼本體不是宣告在類別定義區內的成員函式變成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函式，方法之一是直接在類別定義區中的函式原型宣告前，加上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關鍵字；另外的方法是將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加在函式程式碼本體前，或是前述兩者都加上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關鍵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549360"/>
            <a:ext cx="230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inline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關鍵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012000" y="371628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55640" y="1265400"/>
            <a:ext cx="7345440" cy="3508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格式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nline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資料類別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成員函式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（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::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成員函式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（…程式碼本體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549360"/>
            <a:ext cx="230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inline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關鍵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796000" y="386064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1265400"/>
            <a:ext cx="7345440" cy="3813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格式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資料類別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成員函式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（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nline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::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成員函式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（…程式碼本體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549360"/>
            <a:ext cx="230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inline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關鍵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580000" y="436572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98560" y="1265400"/>
            <a:ext cx="7345440" cy="3508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格式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nline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資料類別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成員函式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（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nline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::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成員函式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（…程式碼本體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549360"/>
            <a:ext cx="230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inline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關鍵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651640" y="400536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26920" y="1700280"/>
            <a:ext cx="7345440" cy="2227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我們曾經提過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關鍵字，當時只是用來宣告一般常數；現在我們一樣可以拿來宣告常數物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我們以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utGam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類別來舉個例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onst utGame G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549360"/>
            <a:ext cx="230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關鍵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5651640" y="400536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30080"/>
            <a:ext cx="7345440" cy="4667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一般而言，程式必須透過公用成員函式去改變物件屬性值，所以我們必須先將會及不會改變屬性值的成員函式區分出來。這時候我們又必須借助「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」關鍵字，將它加入成員函式宣告，指明該成員函式不會改變物件屬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（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資料類別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成員函式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(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參數列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) co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（…程式碼本體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資料類別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成員函式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B(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參數列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B) const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（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::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成員函式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B(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參數列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B) co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（…程式碼本體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307800"/>
            <a:ext cx="230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關鍵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012000" y="450864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00000" y="1268280"/>
            <a:ext cx="73454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其實在類別中，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mutabl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關鍵字與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關鍵字是成對出現的。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mutabl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的意思是「不定的」，當我們的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物件中必須存在可由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成員函式更改的「不固定的」屬性時，就是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mutabl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關鍵字出場的時候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595440"/>
            <a:ext cx="230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tab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關鍵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0-5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靜態成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95640" y="2381400"/>
            <a:ext cx="525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5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何謂靜態成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5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靜態屬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5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靜態成員函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00000" y="1268280"/>
            <a:ext cx="73454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「靜態成員」是用來紀錄或存取自同一類別生成的物件間，所共同擁有的資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另外，我們有時必須針對物件識別其來源類別，也可以設定一個靜態變數，存放類別名稱，供程式執行時進行識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692280"/>
            <a:ext cx="230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靜態成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5724360" y="342900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00000" y="1268280"/>
            <a:ext cx="734544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當於類別中宣告「靜態屬性」時，是讓編譯器知道於執行時期「僅為每個類別配置一份該屬性的記憶體空間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宣告格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static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資料類別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屬性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資料類別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::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屬性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初始值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692280"/>
            <a:ext cx="230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靜態屬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6732720" y="458136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26920" y="981000"/>
            <a:ext cx="734544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我們將類別結構的格式整理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私用屬性及函式宣告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存取權限關鍵字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權限之屬性及函式宣告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存取權限關鍵字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權限之屬性及函式宣告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…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存取權限關鍵字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權限之屬性及函式宣告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物件序列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867280" y="414972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549360"/>
            <a:ext cx="23767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類別結構格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00000" y="839880"/>
            <a:ext cx="7345440" cy="4300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與靜態屬性類似，成員函是同樣也可以宣告成「靜態成員函式」。宣告「靜態成員函式」的方式與靜態屬性相同，只要直接在成員函式宣告前加上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即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（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static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資料類別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成員函式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（參數列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（…函式程式碼本體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資料類別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成員函式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（參數列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（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資料類別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::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成員函式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（參數列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（…函式程式碼本體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263520"/>
            <a:ext cx="230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靜態成員函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227640" y="450864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0-6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物件的指標運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95640" y="2381400"/>
            <a:ext cx="525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6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指標、參考與物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6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深入「參考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6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成員指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00000" y="1428840"/>
            <a:ext cx="73454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可以指標來指向指標，但「參考」就不能以另一「參考」或指標來指向它，也就是無法取得「參考」位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一般而言，我們會將「參考」用於與參數傳遞相關的時候，也就是：規格化參數、函式之回傳值及「參考」型態變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811080"/>
            <a:ext cx="18734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深入參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227640" y="378936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00000" y="1428840"/>
            <a:ext cx="73454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當直接以物件為參數傳遞或函式傳回值型態時，將會驅動該物件的複製建構子與解構子。但是若我們在進行上述操作時並不想牽涉物件的建構與解構，那該麼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最簡單的方式就是以「原來的物件」不經複製的過程直接處理，換句話說，就是改以物件「參考」為參數傳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811080"/>
            <a:ext cx="18734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深入參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6156360" y="422100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42920" y="1198440"/>
            <a:ext cx="73454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成員指標與一般的指標不同，一般指標是以記憶體的「絕對定址」的方式去指向變數、物件、或函式記憶體位址；但「成員指標」是用「相對定址」的方式，以相對於類別（物件）起始位址的「偏移量」，也就是成員位址與類別（物件）起始位址的差值，去存取類別成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若要以成員指標去存取類別成員，必須以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.*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或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-&gt;*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運算子（成員指標運算子）指定成員指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811080"/>
            <a:ext cx="18734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成員指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6156360" y="443700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42920" y="1198440"/>
            <a:ext cx="7345440" cy="2959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一般而言，成員指標的宣告方式可歸納成下面格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宣告類別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的屬性成員指標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，其資料型態為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資料型態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1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類別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::*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成員指標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X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宣告類別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的成員函式之成員指標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，其資料型態為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，接受合於參數型態序列規定的參數傳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資料型態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2 (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類別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::*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成員指標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X2)(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參數型態序列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811080"/>
            <a:ext cx="18734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成員指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156360" y="443700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42920" y="1198440"/>
            <a:ext cx="7345440" cy="4728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依照上面格式，我們可以下面的格式存取類別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中的成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宣告型態為類別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的物件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及物件指標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p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類別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物件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O, *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物件指標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p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為成員指標指派類別成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成員指標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X1 = &amp;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類別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::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屬性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成員指標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X2 = &amp;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類別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::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成員函式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以成員指標存取屬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物件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O.*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成員指標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X1 =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欲設定給屬性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的值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物件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ptO-&gt;*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成員指標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X1 =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欲設定給屬性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的值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以成員指標呼叫成員函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物件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O.*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成員指標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X2)(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參數序列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物件指標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ptO-&gt;*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成員指標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X2)(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參數序列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620640"/>
            <a:ext cx="18734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成員指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6156360" y="443700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00000" y="1433520"/>
            <a:ext cx="7345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成員指標的使用時機，大部分是用在「類別繼承」的使用階段，尤其是「父類別」與「子類別」或繼承自同一「父類別」的「子類別」間，以特定物件當參數傳遞時，用來存取類別成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620640"/>
            <a:ext cx="18734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成員指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084720" y="321300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0-7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成員函式多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2381400"/>
            <a:ext cx="525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7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成員函式與多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7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建構子多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7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多載成員函式與參數的預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00000" y="1433520"/>
            <a:ext cx="7345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成員函式的「多載」可以將處理類似資料或程序的成員函式，以同樣的函式名稱命名，但賦予它們不同的傳入參數序列。這樣編譯器於我們呼叫成員函式時，也一樣可以進行辨識，選擇適當的成員函式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620640"/>
            <a:ext cx="40323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「成員函式」與「多載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084720" y="321300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26920" y="981000"/>
            <a:ext cx="7345440" cy="4300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當我們於類別定義範圍內，僅宣告屬性或成員函式的「原型」（即僅有宣告敘述，未加以指定其內容），而在類別定義範圍外欲定義對應之內容時，必須使用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運算子指定屬性或成員函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（資料型態）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A1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屬性名稱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（資料型態）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A2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成員函式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F(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A1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::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屬性名稱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P = NewValu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A2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類別名稱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::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成員函式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F(…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（成員函式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程式碼本體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867280" y="443700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6920" y="549360"/>
            <a:ext cx="23767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範圍指定運算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00000" y="1433520"/>
            <a:ext cx="7345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建構子也是類別的成員函式中的一種，所以它理所當然也可以多載。一般而言，當我們想以較彈性化及多樣化地初始化我們的物件時，選擇讓建構子多載是個不錯的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0640"/>
            <a:ext cx="18734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建構子多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084720" y="321300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00000" y="1433520"/>
            <a:ext cx="73454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多載成員函式（包含建構子）中的參數可不可以設定預設值？答案當然是「可以」，但是會有意外的結果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「預設參數」可以簡化我們的多載建構子，得以將其中共通性較大的建構子進行合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620640"/>
            <a:ext cx="396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多載成員函式與參數的預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6084720" y="364500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0-8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運算子多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2381400"/>
            <a:ext cx="52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8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何謂運算子多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8-2 “=“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運算子的多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8-3 “+=“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運算子的多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8-4 “||”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運算子的多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55640" y="836640"/>
            <a:ext cx="7345440" cy="487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對於其它程式語言字串相加等處理動作，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可以透過透過「運算子的多載」來進行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運算子的多載是透過「成員運算子函式」來宣告，並以「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operator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」關鍵字來指定運算子，其宣告格式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類別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（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資料型態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1 operator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運算子名稱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O1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（參數序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（…程式碼本體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資料型態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2 operator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運算子名稱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O2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（運算元參數序列）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（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資料型態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1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類別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::operator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運算子名稱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O2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（運算元參數序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（…程式碼本體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7164360" y="472428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26920" y="333360"/>
            <a:ext cx="36007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何謂「運算子多載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55640" y="1793880"/>
            <a:ext cx="73454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中的運算子幾乎都可以進行多載，除了下列四種以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「範圍指定運算子」─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「成員選擇運算子」中的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「成員指標運算子」中的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.*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「條件選擇運算子」─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?: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012000" y="407664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1003320"/>
            <a:ext cx="36007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何謂「運算子多載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55640" y="1125360"/>
            <a:ext cx="73454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當運算元中含有指標形態成員時，於其「位元組對位元組」的複製過程中，並不會複製指標所指向的實際記憶體區塊，僅複製其指標內容，造成兩個指標指向同一塊記憶體。因此，當此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運算子的兩側運算元進行解構時，將發生同時釋放同一塊記憶體的錯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為了解決此問題，我們會多載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運算子，讓它和複製運算子一樣，依需要進行指標型態成員的實體記憶體複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6084720" y="43149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826920" y="476280"/>
            <a:ext cx="28814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」運算子的多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55640" y="1557360"/>
            <a:ext cx="7345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就我們所知，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+=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運算子是用來進行兩個數值型態變數的相加，並將結果設給左側運算元。現在，我們可以將它拿來活用，把它多載以進行我們所要的「加成」處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364000" y="29973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26920" y="811080"/>
            <a:ext cx="345780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+=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」運算子的多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55640" y="1557360"/>
            <a:ext cx="73454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[]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運算子。一般而言，我們用它來存取陣列中的元素，但是經過多載後，它的功能將可以有所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5364000" y="263700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26920" y="811080"/>
            <a:ext cx="345780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[]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」運算子的多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4360" y="1773360"/>
            <a:ext cx="7777080" cy="48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3300"/>
                </a:solidFill>
                <a:latin typeface="新細明體"/>
              </a:rPr>
              <a:t>在</a:t>
            </a:r>
            <a:r>
              <a:rPr b="1" lang="zh-TW" sz="2600" spc="-1" strike="noStrike">
                <a:solidFill>
                  <a:srgbClr val="003300"/>
                </a:solidFill>
                <a:latin typeface="新細明體"/>
              </a:rPr>
              <a:t>C++</a:t>
            </a:r>
            <a:r>
              <a:rPr b="1" lang="zh-TW" sz="2600" spc="-1" strike="noStrike">
                <a:solidFill>
                  <a:srgbClr val="003300"/>
                </a:solidFill>
                <a:latin typeface="新細明體"/>
              </a:rPr>
              <a:t>的程式語法中提供了「陣列」這種特殊的資料結構來解決上述的問題，它可以讓程式把同類的資訊全部記錄在某一段記憶體中，一來可以讓我們省去為同類資訊一一命名的麻煩，二來還可以透過「索引值」來取得存在記憶體中我們所真正需要的資訊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156360" y="422100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1042920" y="981000"/>
            <a:ext cx="6841800" cy="4319280"/>
            <a:chOff x="1042920" y="981000"/>
            <a:chExt cx="6841800" cy="4319280"/>
          </a:xfrm>
        </p:grpSpPr>
        <p:sp>
          <p:nvSpPr>
            <p:cNvPr id="211" name=""/>
            <p:cNvSpPr/>
            <p:nvPr/>
          </p:nvSpPr>
          <p:spPr>
            <a:xfrm>
              <a:off x="1042920" y="1451880"/>
              <a:ext cx="6841800" cy="384840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在此有個很重要的技巧要提醒各位，當我們使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判斷式時，一定要記得進行「縮排」的動作，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謂的縮排，就是將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或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的內容往右縮減一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Tab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的距離，如此閱讀程式時，才會清楚知道哪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項工具是由哪一個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或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所負責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1042920" y="981000"/>
              <a:ext cx="2336760" cy="470520"/>
              <a:chOff x="1042920" y="981000"/>
              <a:chExt cx="2336760" cy="470520"/>
            </a:xfrm>
          </p:grpSpPr>
          <p:sp>
            <p:nvSpPr>
              <p:cNvPr id="213" name=""/>
              <p:cNvSpPr/>
              <p:nvPr/>
            </p:nvSpPr>
            <p:spPr>
              <a:xfrm>
                <a:off x="1042920" y="981000"/>
                <a:ext cx="1807920" cy="470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ffff"/>
                    </a:solidFill>
                    <a:latin typeface="Arial"/>
                  </a:rPr>
                  <a:t>學習小技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828520" y="981000"/>
                <a:ext cx="551160" cy="470520"/>
              </a:xfrm>
              <a:prstGeom prst="rtTriangl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26920" y="1189080"/>
            <a:ext cx="7345440" cy="3386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當我們欲使用以類別宣告而生成的物件中的屬性或成員函式時，必須以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運算子與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運算子來進行屬性或成員函式的選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這兩個運算子的差別在於，若物件被宣告為實體，使用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運算子；若宣告為物件指標，使用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運算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物件名稱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屬性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物件名稱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成員函式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物件指標名稱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屬性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物件指標名稱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成員函式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(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724360" y="4292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26920" y="549360"/>
            <a:ext cx="23767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成員選擇運算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42920" y="981000"/>
            <a:ext cx="6841800" cy="3384360"/>
            <a:chOff x="1042920" y="981000"/>
            <a:chExt cx="6841800" cy="3384360"/>
          </a:xfrm>
        </p:grpSpPr>
        <p:sp>
          <p:nvSpPr>
            <p:cNvPr id="59" name=""/>
            <p:cNvSpPr/>
            <p:nvPr/>
          </p:nvSpPr>
          <p:spPr>
            <a:xfrm>
              <a:off x="1042920" y="1350000"/>
              <a:ext cx="6841800" cy="301536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基於程式的可讀性考量，筆者建議您將具有相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存取權限的屬性與成員函式作集中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042920" y="981000"/>
              <a:ext cx="2336760" cy="369000"/>
              <a:chOff x="1042920" y="981000"/>
              <a:chExt cx="2336760" cy="369000"/>
            </a:xfrm>
          </p:grpSpPr>
          <p:sp>
            <p:nvSpPr>
              <p:cNvPr id="61" name=""/>
              <p:cNvSpPr/>
              <p:nvPr/>
            </p:nvSpPr>
            <p:spPr>
              <a:xfrm>
                <a:off x="1042920" y="981000"/>
                <a:ext cx="1807920" cy="3690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ffff"/>
                    </a:solidFill>
                    <a:latin typeface="Arial"/>
                  </a:rPr>
                  <a:t>學習小技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828520" y="981000"/>
                <a:ext cx="551160" cy="369000"/>
              </a:xfrm>
              <a:prstGeom prst="rtTriangl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26920" y="350028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0-2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物件的建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4360" y="2381400"/>
            <a:ext cx="5256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2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建立實體物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2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宣告物件陣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2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宣告物件指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0-2-4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動態物件的記憶體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26920" y="981000"/>
            <a:ext cx="7345440" cy="3996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所謂「實體物件」，是指每個物件於記憶體中均有其實際配置之記憶體空間，而非如指標一般，僅是位址的參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宣告格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類別名稱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定義類別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類別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為資料型態，宣告物件名稱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類別名稱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物件名稱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物件的引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當物件是以實體方式宣告，使用時，就以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」進行物件中公用成員的存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物件名稱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屬性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物件名稱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成員函式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參數序列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524720" y="484200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6920" y="549360"/>
            <a:ext cx="23767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建立實體物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08:55:04Z</dcterms:created>
  <dc:creator>Justin</dc:creator>
  <dc:description/>
  <dc:language>en-US</dc:language>
  <cp:lastModifiedBy>Justin</cp:lastModifiedBy>
  <dcterms:modified xsi:type="dcterms:W3CDTF">2002-04-09T08:32:58Z</dcterms:modified>
  <cp:revision>102</cp:revision>
  <dc:subject/>
  <dc:title>投影片 1</dc:title>
</cp:coreProperties>
</file>