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2619-1E63-416A-8A42-7225C7BFE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4CD9-E64D-449F-83DC-396F456DB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5C93-A575-4CE8-8CA0-0CE950E53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4465-4B2D-4306-B91C-421F77440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D4FC-7068-4848-B2CB-9F5354F45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2C81-5524-4AF0-AB11-41FA13255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CDF4-80F3-458F-AF6F-4C706DA33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6C13-E216-48E1-8728-E3D399A87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3E1F-31B0-41AB-A12E-0CA62AFD2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D22A-81E0-4391-898F-E4A41FAD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17B1-2DAC-4EC0-966A-434CA9A5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72AE-A9B2-47F6-A4C4-C8B9EF28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30E63-BC27-4F44-99D6-ED322AC03FF6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03280" y="549360"/>
            <a:ext cx="6048360" cy="1224000"/>
          </a:xfrm>
          <a:prstGeom prst="roundRect">
            <a:avLst>
              <a:gd name="adj" fmla="val 16667"/>
            </a:avLst>
          </a:prstGeom>
          <a:solidFill>
            <a:srgbClr val="fbdf5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第２０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控制項的建立與使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27280" y="2308320"/>
            <a:ext cx="5256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20-1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直接建立控制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20-1-1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View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中加入控制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20-1-2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控制項的訊息處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11280" y="620640"/>
            <a:ext cx="7777080" cy="16779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新細明體"/>
              </a:rPr>
              <a:t>所謂的「控制項」就是一般我們在視窗程式中所常看到的各類視窗物件，如：按鈕、下拉式選單、文字編輯方塊</a:t>
            </a:r>
            <a:r>
              <a:rPr b="1" lang="zh-TW" sz="2600" spc="-1" strike="noStrike">
                <a:solidFill>
                  <a:srgbClr val="000000"/>
                </a:solidFill>
                <a:latin typeface="新細明體"/>
              </a:rPr>
              <a:t>...</a:t>
            </a:r>
            <a:r>
              <a:rPr b="1" lang="zh-TW" sz="2600" spc="-1" strike="noStrike">
                <a:solidFill>
                  <a:srgbClr val="000000"/>
                </a:solidFill>
                <a:latin typeface="新細明體"/>
              </a:rPr>
              <a:t>等等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新細明體"/>
              </a:rPr>
              <a:t>在</a:t>
            </a:r>
            <a:r>
              <a:rPr b="1" lang="zh-TW" sz="2600" spc="-1" strike="noStrike">
                <a:solidFill>
                  <a:srgbClr val="000000"/>
                </a:solidFill>
                <a:latin typeface="新細明體"/>
              </a:rPr>
              <a:t>MFC</a:t>
            </a:r>
            <a:r>
              <a:rPr b="1" lang="zh-TW" sz="2600" spc="-1" strike="noStrike">
                <a:solidFill>
                  <a:srgbClr val="000000"/>
                </a:solidFill>
                <a:latin typeface="新細明體"/>
              </a:rPr>
              <a:t>的程式中產生控制項基本上有兩種方式：一是直接以</a:t>
            </a:r>
            <a:r>
              <a:rPr b="1" lang="zh-TW" sz="2600" spc="-1" strike="noStrike">
                <a:solidFill>
                  <a:srgbClr val="000000"/>
                </a:solidFill>
                <a:latin typeface="新細明體"/>
              </a:rPr>
              <a:t>MFC</a:t>
            </a:r>
            <a:r>
              <a:rPr b="1" lang="zh-TW" sz="2600" spc="-1" strike="noStrike">
                <a:solidFill>
                  <a:srgbClr val="000000"/>
                </a:solidFill>
                <a:latin typeface="新細明體"/>
              </a:rPr>
              <a:t>的類別產生控制項物件，另一種方法則是編輯話盒範本，並於其上加入所要使用的控制項，再在程式中引用這個對話盒範本來使用其上的控制項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156360" y="3932280"/>
            <a:ext cx="2016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826920" y="1319040"/>
            <a:ext cx="734544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MFC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中所有的控制項類別都是衍生自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CWnd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類別，因此也可視為「視窗」的一種，所以各類不同的控制項，也都會擁有一些視窗物件的基本特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Document/View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的架構之下，很顯然的我們放置控制項區域的即是在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View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之中，因此在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View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類別的定義檔中會先宣告控制項資料成員，而後在實作檔中來建立控制項物件並放置於視窗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6156360" y="4221000"/>
            <a:ext cx="2016000" cy="2016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6920" y="549360"/>
            <a:ext cx="331344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在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View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中加入控制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26920" y="981000"/>
            <a:ext cx="7345440" cy="41173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不同的控制項會依控制項的特性來產生各種的控制項訊息，而要處理各類的控制項訊息，必須先宣告訊息處理的函式，並在訊息表中來定義發出訊息的控制項、訊息的種類，以及指定處理的訊息函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26920" y="549360"/>
            <a:ext cx="331344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控制項的訊息處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116000" y="2585880"/>
          <a:ext cx="6840360" cy="3380040"/>
        </p:xfrm>
        <a:graphic>
          <a:graphicData uri="http://schemas.openxmlformats.org/drawingml/2006/table">
            <a:tbl>
              <a:tblPr/>
              <a:tblGrid>
                <a:gridCol w="2734920"/>
                <a:gridCol w="4105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設定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說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B_ABORTRETRYIGNOR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顯示「異常終止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A)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」、「重試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R)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」、「略過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I)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」按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B_OK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顯示「確定」按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B_OKCANCE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顯示「確定」、「取消」按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B_RETRYCANCE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顯示「重試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R)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」、「取消」按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B_YES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顯示「是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Y)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」、「否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N)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」按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B_YESNOCANCE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顯示「是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Y)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」、「否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N)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」、「取消」按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10"/>
          <a:stretch/>
        </p:blipFill>
        <p:spPr>
          <a:xfrm>
            <a:off x="7128000" y="402732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826920" y="981000"/>
            <a:ext cx="7345440" cy="30200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26920" y="549360"/>
            <a:ext cx="331344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控制項的訊息處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300720" y="3284640"/>
            <a:ext cx="2016360" cy="2016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6012000" y="1955880"/>
          <a:ext cx="33336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2000" y="1955880"/>
                    <a:ext cx="33336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012000" y="2387520"/>
          <a:ext cx="333360" cy="333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12000" y="2387520"/>
                    <a:ext cx="33336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012000" y="2747880"/>
          <a:ext cx="333360" cy="333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12000" y="2747880"/>
                    <a:ext cx="33336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116000" y="1523880"/>
          <a:ext cx="5761080" cy="1976400"/>
        </p:xfrm>
        <a:graphic>
          <a:graphicData uri="http://schemas.openxmlformats.org/drawingml/2006/table">
            <a:tbl>
              <a:tblPr/>
              <a:tblGrid>
                <a:gridCol w="4665600"/>
                <a:gridCol w="1095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設定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圖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B_ICONEXCLAMA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B_ICONINFORMA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B_ICONQUES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B_ICONSTOP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012000" y="3108240"/>
          <a:ext cx="333360" cy="333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12000" y="3108240"/>
                    <a:ext cx="33336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7T08:55:04Z</dcterms:created>
  <dc:creator>Justin</dc:creator>
  <dc:description/>
  <dc:language>en-US</dc:language>
  <cp:lastModifiedBy>Justin</cp:lastModifiedBy>
  <dcterms:modified xsi:type="dcterms:W3CDTF">2002-04-10T10:05:06Z</dcterms:modified>
  <cp:revision>87</cp:revision>
  <dc:subject/>
  <dc:title>投影片 1</dc:title>
</cp:coreProperties>
</file>