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778-ADC6-482A-83F6-51F6ADDC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C22-D7C1-4BC2-978E-F34EBED5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2D7-20E6-478A-9F34-84538972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8508-B7B2-426A-B6BF-C90B557D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B70-4F87-4E0C-8858-EEE4F151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340-8DC8-4D65-97C1-6A559C5F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10E-C262-424C-B159-C9F25D11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411-2E46-4515-91B9-05AB97AF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4F5-AA9C-424D-A5FF-5DCD13FA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3A3-06F2-440D-B107-E69A6792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AE7-A786-4CBC-885F-4C575F3E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400-123E-4551-B18E-E330A4F4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A8B1-CFCB-461F-B4A4-19A5DD46ACE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549360"/>
            <a:ext cx="6048360" cy="122400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第１８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基本的螢幕繪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27280" y="2308320"/>
            <a:ext cx="52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8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各類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GDI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類別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8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顯示與使用點陣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1319040"/>
            <a:ext cx="7345440" cy="320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由建構子直接建立畫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Pen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Pen( int nPenStyle, int nWidth, COLORREF crColor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hrow( CResourceException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呼叫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reatePen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函式建立畫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OOL CreatePen( int nPenStyle, int nWidth, COLORREF crColor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549360"/>
            <a:ext cx="2881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以畫筆繪製線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156360" y="436572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26920" y="1319040"/>
            <a:ext cx="734544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由建構子直接建立筆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Brush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Brush(COLORREF crCo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Brush(int nIndex, COLORREF crCo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Brush(CBitmap* pBitm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呼叫函式建立筆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BOOL CreateSolidBrush( COLORREF crColor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BOOL CreateHatchBrush( int nIndex, COLORREF crColor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549360"/>
            <a:ext cx="3240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以筆刷繪製填充區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156360" y="4653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8-2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顯示與使用點陣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2492280"/>
            <a:ext cx="5759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8-2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點陣圖物件與結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8-2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點陣圖與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的關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8-2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製作透空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26920" y="1319040"/>
            <a:ext cx="7345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在應用程式當中，經常會遇到需要載入圖片來顯示圖案的狀況，而程式中所使用的圖片格式通常是副檔名為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.bmp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的「點陣圖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.jpg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.pcx...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等，都是經壓縮過的格式，要顯示這些圖檔，則是要瞭解壓縮的格式，並加以解壓縮以還原成原來的像素點顏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，才能顯示圖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5724360" y="378936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319040"/>
            <a:ext cx="7345440" cy="3813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MFC GDI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Bitmap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類別可用來建立點陣圖物件，而該類別中提供了大部分與載入及建立點陣圖相關的函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建立點陣圖物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Bitmap m_bitma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載入點陣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m_bitmap.m_hObject = (HBITMAP)::LoadImage(NULL,"bgbmp.bmp",IMAGE_BITMAP,640,480,LR_LOADFROM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取得點陣圖資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t GetObject( int nCount, LPVOID lpObject ) con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m_bitmap.GetObject( sizeof(BITMAP), &amp;b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549360"/>
            <a:ext cx="3240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點陣圖物件與結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6516720" y="4842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26920" y="981000"/>
            <a:ext cx="734544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要將載入點陣圖的影像顯示於螢幕上，必須將點陣圖物件如同一般的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GDI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物件一樣選擇到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物件當中，再由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物件的「貼圖函式」，貼出點陣圖內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物件是一個代表螢幕視窗的顯像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，那麼便可在視窗中顯示點陣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49360"/>
            <a:ext cx="3240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點陣圖與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DC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的關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6516720" y="4842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03280" y="3378240"/>
            <a:ext cx="3889440" cy="25718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63640" y="3828960"/>
            <a:ext cx="2879640" cy="19764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342900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於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物件中選擇點陣圖物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3860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Bitmap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點陣圖物件中包含了載入點陣圖的內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4"/>
          <a:stretch/>
        </p:blipFill>
        <p:spPr>
          <a:xfrm>
            <a:off x="2050920" y="4581360"/>
            <a:ext cx="129708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26920" y="1336680"/>
            <a:ext cx="73454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在講解透空的方式之前，在這裡要先告訴您幾個有關像素點顏色的觀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點陣圖中「純黑色」像素點的顏色值為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0000..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」，所有位元值皆為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，位元值的長度視目前電腦的顯示色彩而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點陣圖中「白色」像素點的顏色值為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111..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」，所有位元值皆為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點陣圖中其它色彩的顏色有可能為任意值，如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11..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549360"/>
            <a:ext cx="3240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製作透空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6372360" y="443700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26920" y="1052640"/>
            <a:ext cx="73454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有了這樣的一個點陣圖案，我們便可利用像素點顏色的「位元運算」，在背景圖上產生透空，而進行像素點位元運算的關鍵則是在設定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BitBlt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貼圖函式的最後一個參數。而透空的過程必須用到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與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兩種像素點位元運算的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549360"/>
            <a:ext cx="3240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製作透空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6372360" y="443700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1116000" y="3432240"/>
            <a:ext cx="511344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042920" y="260280"/>
            <a:ext cx="6841800" cy="5760720"/>
            <a:chOff x="1042920" y="260280"/>
            <a:chExt cx="6841800" cy="5760720"/>
          </a:xfrm>
        </p:grpSpPr>
        <p:sp>
          <p:nvSpPr>
            <p:cNvPr id="117" name=""/>
            <p:cNvSpPr/>
            <p:nvPr/>
          </p:nvSpPr>
          <p:spPr>
            <a:xfrm>
              <a:off x="1042920" y="888480"/>
              <a:ext cx="6841800" cy="513252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我們只使用了一張包含所有要使用圖案的點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圖，並設定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BitBlt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的參數來決定要擷取點陣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中的那一部分以及進行何種運算。以下面的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式碼為例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pDC-&gt;BitBlt(0,0,280,200,&amp;m_dc,280,0,SRCAND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表示要顯示在視窗中的部分點陣圖大小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280x200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，所要擷取部分的左上點座標是在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源點陣圖中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(280,0)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的位置上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042920" y="260280"/>
              <a:ext cx="2336760" cy="627840"/>
              <a:chOff x="1042920" y="260280"/>
              <a:chExt cx="2336760" cy="627840"/>
            </a:xfrm>
          </p:grpSpPr>
          <p:sp>
            <p:nvSpPr>
              <p:cNvPr id="119" name=""/>
              <p:cNvSpPr/>
              <p:nvPr/>
            </p:nvSpPr>
            <p:spPr>
              <a:xfrm>
                <a:off x="1042920" y="260280"/>
                <a:ext cx="1807920" cy="627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ff"/>
                    </a:solidFill>
                    <a:latin typeface="Arial"/>
                  </a:rPr>
                  <a:t>學習小技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828520" y="260280"/>
                <a:ext cx="551160" cy="62784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268360" y="3933720"/>
            <a:ext cx="5113440" cy="1830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788000" y="364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點座標（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280,0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900000" y="1268280"/>
            <a:ext cx="7200720" cy="3744720"/>
            <a:chOff x="900000" y="1268280"/>
            <a:chExt cx="7200720" cy="3744720"/>
          </a:xfrm>
        </p:grpSpPr>
        <p:sp>
          <p:nvSpPr>
            <p:cNvPr id="125" name=""/>
            <p:cNvSpPr/>
            <p:nvPr/>
          </p:nvSpPr>
          <p:spPr>
            <a:xfrm>
              <a:off x="900000" y="1676520"/>
              <a:ext cx="7200720" cy="33364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將所要使用的圖案放在同一張點陣圖中，而在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式中只需載入一次，如此將可減少將圖檔從電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中載入動作的次數，因而節省了許多載入的時間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900000" y="1268280"/>
              <a:ext cx="2459160" cy="408240"/>
              <a:chOff x="900000" y="1268280"/>
              <a:chExt cx="2459160" cy="408240"/>
            </a:xfrm>
          </p:grpSpPr>
          <p:sp>
            <p:nvSpPr>
              <p:cNvPr id="127" name=""/>
              <p:cNvSpPr/>
              <p:nvPr/>
            </p:nvSpPr>
            <p:spPr>
              <a:xfrm>
                <a:off x="900000" y="1268280"/>
                <a:ext cx="1902600" cy="408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ff"/>
                    </a:solidFill>
                    <a:latin typeface="Arial"/>
                  </a:rPr>
                  <a:t>學習小技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79200" y="1268280"/>
                <a:ext cx="579960" cy="40824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8-1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各類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GDI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類別的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2421000"/>
            <a:ext cx="5759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8-1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認識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8-1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於視窗中繪製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8-1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以畫筆繪製線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8-1-4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以筆刷繪製填充區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765000"/>
            <a:ext cx="7777080" cy="3657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「圖形裝置介面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(Graphics Device Interface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，簡稱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GDI)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」，是對於處理有關繪圖動作類別函式的通稱，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MFC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中所支援的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GDI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，包含了與「點陣圖」、「字型」、「畫筆」、「筆刷」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...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等相關的類別，這些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GDI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的類別統統都是衍生自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CGdiObject</a:t>
            </a: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父類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128000" y="458136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22560" y="2997360"/>
            <a:ext cx="144144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Gdi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4005360"/>
            <a:ext cx="1081080" cy="647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畫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4005360"/>
            <a:ext cx="1081080" cy="647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Br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畫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4005360"/>
            <a:ext cx="1081080" cy="647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字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4005360"/>
            <a:ext cx="1081080" cy="647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Bit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點陣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4005360"/>
            <a:ext cx="1081080" cy="647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調色盤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20000" y="4005360"/>
            <a:ext cx="1081080" cy="647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Rq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色彩區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7" idx="2"/>
            <a:endCxn id="48" idx="0"/>
          </p:cNvCxnSpPr>
          <p:nvPr/>
        </p:nvCxnSpPr>
        <p:spPr>
          <a:xfrm flipH="1">
            <a:off x="1799640" y="3428640"/>
            <a:ext cx="284364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7" idx="2"/>
            <a:endCxn id="49" idx="0"/>
          </p:cNvCxnSpPr>
          <p:nvPr/>
        </p:nvCxnSpPr>
        <p:spPr>
          <a:xfrm flipH="1">
            <a:off x="2952360" y="3428640"/>
            <a:ext cx="16912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7" idx="2"/>
            <a:endCxn id="50" idx="0"/>
          </p:cNvCxnSpPr>
          <p:nvPr/>
        </p:nvCxnSpPr>
        <p:spPr>
          <a:xfrm flipH="1">
            <a:off x="4105080" y="3428640"/>
            <a:ext cx="53856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2"/>
            <a:endCxn id="51" idx="0"/>
          </p:cNvCxnSpPr>
          <p:nvPr/>
        </p:nvCxnSpPr>
        <p:spPr>
          <a:xfrm>
            <a:off x="4642920" y="3428640"/>
            <a:ext cx="61524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2"/>
            <a:endCxn id="52" idx="0"/>
          </p:cNvCxnSpPr>
          <p:nvPr/>
        </p:nvCxnSpPr>
        <p:spPr>
          <a:xfrm>
            <a:off x="4643280" y="3428640"/>
            <a:ext cx="176616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7" idx="2"/>
            <a:endCxn id="53" idx="0"/>
          </p:cNvCxnSpPr>
          <p:nvPr/>
        </p:nvCxnSpPr>
        <p:spPr>
          <a:xfrm>
            <a:off x="4643280" y="3428640"/>
            <a:ext cx="29188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1319040"/>
            <a:ext cx="734544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GDI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類別之於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，就好比「筆」之於「紙」。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就好比一張紙，這張紙可能是代表螢幕的繪圖區域，也有可能是代表印表機的輸出，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物件本身包含了許多圖形繪製的函式成員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各種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類型共同的父類別則為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D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，如下圖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認識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43440" y="3638520"/>
            <a:ext cx="809640" cy="3762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2520" y="4581360"/>
            <a:ext cx="1347840" cy="43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CClient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4581360"/>
            <a:ext cx="1528920" cy="360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CMetaFile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53080" y="4581360"/>
            <a:ext cx="1258920" cy="360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CPaint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4581360"/>
            <a:ext cx="1513080" cy="3765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CWindow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128000" y="4221000"/>
            <a:ext cx="2016000" cy="2016360"/>
          </a:xfrm>
          <a:prstGeom prst="rect">
            <a:avLst/>
          </a:prstGeom>
          <a:ln w="0">
            <a:noFill/>
          </a:ln>
        </p:spPr>
      </p:pic>
      <p:cxnSp>
        <p:nvCxnSpPr>
          <p:cNvPr id="68" name=""/>
          <p:cNvCxnSpPr>
            <a:stCxn id="62" idx="2"/>
            <a:endCxn id="63" idx="0"/>
          </p:cNvCxnSpPr>
          <p:nvPr/>
        </p:nvCxnSpPr>
        <p:spPr>
          <a:xfrm flipH="1">
            <a:off x="2026440" y="4014720"/>
            <a:ext cx="2321640" cy="56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2" idx="2"/>
            <a:endCxn id="64" idx="0"/>
          </p:cNvCxnSpPr>
          <p:nvPr/>
        </p:nvCxnSpPr>
        <p:spPr>
          <a:xfrm flipH="1">
            <a:off x="3736440" y="4014720"/>
            <a:ext cx="612000" cy="56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2" idx="2"/>
            <a:endCxn id="65" idx="0"/>
          </p:cNvCxnSpPr>
          <p:nvPr/>
        </p:nvCxnSpPr>
        <p:spPr>
          <a:xfrm>
            <a:off x="4347720" y="4014720"/>
            <a:ext cx="1035720" cy="56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2" idx="2"/>
            <a:endCxn id="66" idx="0"/>
          </p:cNvCxnSpPr>
          <p:nvPr/>
        </p:nvCxnSpPr>
        <p:spPr>
          <a:xfrm>
            <a:off x="4347720" y="4014720"/>
            <a:ext cx="2637720" cy="56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6920" y="1319040"/>
            <a:ext cx="73454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下表說明了由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D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類別所衍生出的各種不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類型的意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認識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187280" y="2421000"/>
          <a:ext cx="6697800" cy="3008160"/>
        </p:xfrm>
        <a:graphic>
          <a:graphicData uri="http://schemas.openxmlformats.org/drawingml/2006/table">
            <a:tbl>
              <a:tblPr/>
              <a:tblGrid>
                <a:gridCol w="1594080"/>
                <a:gridCol w="5103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類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說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ClientD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代表視窗內區域的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etaFileD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用以執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File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I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命令的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aintD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回應螢幕重繪訊息的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WindowD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代表視窗區域的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6948360" y="422100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26920" y="1319040"/>
            <a:ext cx="7345440" cy="2899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Docuemnt/View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架構中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類別下的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OnDraw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函式成員中預設傳入了一個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CDC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物件指標，而我們可利用這個利用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物件指標在視窗中繪製圖案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void CAppView::OnDraw(CDC* pDC)       //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傳入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DC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指標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p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AppDoc* pDoc = GetDocume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SSERT_VALID(pDo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認識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948360" y="422100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26920" y="1319040"/>
            <a:ext cx="7345440" cy="2899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Docuemnt/View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架構中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類別下的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OnDraw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函式成員中預設傳入了一個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CDC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物件指標，而我們可利用這個利用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物件指標在視窗中繪製圖案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void CAppView::OnDraw(CDC* pDC)       //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傳入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DC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指標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p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AppDoc* pDoc = GetDocume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SSERT_VALID(pDo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認識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948360" y="422100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26920" y="1319040"/>
            <a:ext cx="7345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Font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類別則可以建立字型物件，並由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來選用，再次呼叫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TextOut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函式於視窗中輸出字串時，便會依所設定的字型來顯示文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549360"/>
            <a:ext cx="2881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於視窗中繪製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56360" y="2637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1319040"/>
            <a:ext cx="7345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我們可以建立「畫筆」物件來改變繪製線條的效果，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GDI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Pen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類別可用來建立各式的畫筆類型，包含不同的線條樣式、畫筆粗細、色彩、筆頭樣式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產生畫筆物件的方式有二：一是在建構子中指定參數來生成物件，二則是呼叫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reatePen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函式並傳入參數來生成物件，其中所指定的參數值決定了畫筆的樣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549360"/>
            <a:ext cx="2881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以畫筆繪製線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156360" y="436572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8:55:04Z</dcterms:created>
  <dc:creator>Justin</dc:creator>
  <dc:description/>
  <dc:language>en-US</dc:language>
  <cp:lastModifiedBy>Justin</cp:lastModifiedBy>
  <dcterms:modified xsi:type="dcterms:W3CDTF">2002-04-10T09:25:43Z</dcterms:modified>
  <cp:revision>88</cp:revision>
  <dc:subject/>
  <dc:title>投影片 1</dc:title>
</cp:coreProperties>
</file>