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MERA.WAV" ContentType="audio/x-wav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CASHREG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D412-439C-4020-880D-4FDFB607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33"/>
              </a:solidFill>
              <a:latin typeface="標楷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B83A-1A2D-4500-BF9C-5CF548A4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33"/>
              </a:solidFill>
              <a:latin typeface="標楷體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90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90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29B2-49CA-4653-8F73-220A8276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33"/>
              </a:solidFill>
              <a:latin typeface="標楷體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4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20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4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20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7431-7F43-4D82-AB51-D81EC5E3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33"/>
              </a:solidFill>
              <a:latin typeface="標楷體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2314-3180-4DCF-91DE-0062FDB5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33"/>
              </a:solidFill>
              <a:latin typeface="標楷體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97F3-DB15-4721-9D2E-01A16F06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33"/>
              </a:solidFill>
              <a:latin typeface="標楷體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90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F1D3-8F9E-4979-8CB6-1ABBF8E2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33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1AE0-B952-4535-9F61-7801663D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73C3-3117-47C7-AFA9-7C3AF8CD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33"/>
              </a:solidFill>
              <a:latin typeface="標楷體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90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C2D9-AA5F-407A-ACF9-B06B4DF9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33"/>
              </a:solidFill>
              <a:latin typeface="標楷體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90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90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8D7A-0002-4541-BAB4-5965FA20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33"/>
              </a:solidFill>
              <a:latin typeface="標楷體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90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BE37-14E7-47E3-844C-F360BAC4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8ec6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064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743B-DFE0-43CD-BC0A-F0544078A8DF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標楷體"/>
              </a:rPr>
              <a:t>Click to edit the title text format</a:t>
            </a:r>
            <a:endParaRPr b="1" lang="en-US" sz="4800" spc="-1" strike="noStrike">
              <a:solidFill>
                <a:srgbClr val="ff0033"/>
              </a:solidFill>
              <a:latin typeface="標楷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28ec6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37360" y="2604600"/>
            <a:ext cx="379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 Black"/>
                <a:ea typeface="華康POP1體W9"/>
              </a:rPr>
              <a:t>策略聯盟經驗分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02160" y="5158800"/>
            <a:ext cx="38538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 Black"/>
                <a:ea typeface="華康儷粗黑"/>
              </a:rPr>
              <a:t>主講人：普揚資訊股份有限公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 Black"/>
                <a:ea typeface="華康儷粗黑"/>
              </a:rPr>
              <a:t>　　 賴順德 副總經理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strips dir="rd"/>
        <p:sndAc>
          <p:stSnd>
            <p:snd r:embed="rId2" name="CAMERA.WAV"/>
          </p:stSnd>
        </p:sndAc>
      </p:transition>
    </mc:Choice>
    <mc:Fallback>
      <p:transition spd="slow">
        <p:strips dir="rd"/>
        <p:sndAc>
          <p:stSnd>
            <p:snd r:embed="rId2" name="CAMERA.WAV"/>
          </p:stSnd>
        </p:sndAc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8ec6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85680" y="1231920"/>
            <a:ext cx="17640" cy="14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41720" y="1231920"/>
            <a:ext cx="18720" cy="14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27520" y="1231920"/>
            <a:ext cx="17280" cy="14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1720" y="1390680"/>
            <a:ext cx="94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  <a:ea typeface="華康儷粗黑"/>
              </a:rPr>
              <a:t>N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337040" y="1392120"/>
            <a:ext cx="1326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策略聯盟夥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38960" y="1392120"/>
            <a:ext cx="111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公司特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07960" y="1384200"/>
            <a:ext cx="180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07960" y="1384200"/>
            <a:ext cx="176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07960" y="1384200"/>
            <a:ext cx="180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502000" y="1403280"/>
            <a:ext cx="172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02000" y="1384200"/>
            <a:ext cx="172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02000" y="1384200"/>
            <a:ext cx="144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211960" y="1384200"/>
            <a:ext cx="180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211960" y="1384200"/>
            <a:ext cx="19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211960" y="1384200"/>
            <a:ext cx="180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02000" y="1403280"/>
            <a:ext cx="1440" cy="25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211960" y="1403280"/>
            <a:ext cx="1800" cy="25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50800" y="1876320"/>
            <a:ext cx="78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 Black"/>
                <a:ea typeface="華康儷粗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220040" y="1857240"/>
            <a:ext cx="90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維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03480" y="1768320"/>
            <a:ext cx="4910040" cy="48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1. KM ( IN NOT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2.T-cool </a:t>
            </a: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教學網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1.</a:t>
            </a: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全台灣最大教育訓練中心 </a:t>
            </a: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(NT/SQ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2.XML</a:t>
            </a: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最佳的 </a:t>
            </a: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N-TIER WEB DEVELOPMENT 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3.G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1.LIN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2.UMS 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EDI data exchange CENTER (</a:t>
            </a: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有</a:t>
            </a: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3,000</a:t>
            </a: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家客戶</a:t>
            </a: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B2C</a:t>
            </a: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台灣最大廠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台灣第三大</a:t>
            </a: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UPS</a:t>
            </a: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廠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金融軟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1.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2.</a:t>
            </a: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音樂網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P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1.</a:t>
            </a: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自動化廠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2.JAVA OS PRO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大陸市場 </a:t>
            </a: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/ </a:t>
            </a: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研發中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07960" y="1662120"/>
            <a:ext cx="180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41400" y="1662120"/>
            <a:ext cx="144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58680" y="1662120"/>
            <a:ext cx="1238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835280" y="166212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02000" y="1662120"/>
            <a:ext cx="144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19280" y="1662120"/>
            <a:ext cx="5692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211960" y="1662120"/>
            <a:ext cx="180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07960" y="1681200"/>
            <a:ext cx="1800" cy="51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211960" y="1681200"/>
            <a:ext cx="1800" cy="51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4680" y="2570040"/>
            <a:ext cx="78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 Black"/>
                <a:ea typeface="華康儷粗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220040" y="2550960"/>
            <a:ext cx="90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恆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7960" y="2195640"/>
            <a:ext cx="1800" cy="2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5600" y="2195640"/>
            <a:ext cx="415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98640" y="2195640"/>
            <a:ext cx="1440" cy="2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58680" y="2195640"/>
            <a:ext cx="1238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35280" y="219564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02000" y="2195640"/>
            <a:ext cx="1440" cy="2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19280" y="2195640"/>
            <a:ext cx="5692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211960" y="2195640"/>
            <a:ext cx="1800" cy="2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02000" y="2216160"/>
            <a:ext cx="1440" cy="763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211960" y="2216160"/>
            <a:ext cx="1800" cy="763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0800" y="3235320"/>
            <a:ext cx="78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 Black"/>
                <a:ea typeface="華康儷粗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20040" y="3209760"/>
            <a:ext cx="90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文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7960" y="2979720"/>
            <a:ext cx="1800" cy="2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941400" y="2979720"/>
            <a:ext cx="1440" cy="2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02000" y="2979720"/>
            <a:ext cx="1440" cy="2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19280" y="2979720"/>
            <a:ext cx="5692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211960" y="2979720"/>
            <a:ext cx="1800" cy="2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07960" y="3000240"/>
            <a:ext cx="1800" cy="501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41400" y="3000240"/>
            <a:ext cx="1440" cy="501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02000" y="3000240"/>
            <a:ext cx="1440" cy="501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211960" y="3000240"/>
            <a:ext cx="1800" cy="501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25600" y="3665520"/>
            <a:ext cx="78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 Black"/>
                <a:ea typeface="華康儷粗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20040" y="3652920"/>
            <a:ext cx="90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汎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07960" y="3502080"/>
            <a:ext cx="180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25600" y="3502080"/>
            <a:ext cx="415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04760" y="3502080"/>
            <a:ext cx="180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02000" y="3502080"/>
            <a:ext cx="144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519280" y="3502080"/>
            <a:ext cx="5692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211960" y="3502080"/>
            <a:ext cx="180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7960" y="3521160"/>
            <a:ext cx="180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004760" y="3521160"/>
            <a:ext cx="180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02000" y="3521160"/>
            <a:ext cx="144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211960" y="3521160"/>
            <a:ext cx="180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0800" y="4008600"/>
            <a:ext cx="78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 Black"/>
                <a:ea typeface="華康儷粗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249200" y="3978360"/>
            <a:ext cx="10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英特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07960" y="3900600"/>
            <a:ext cx="180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88960" y="3900600"/>
            <a:ext cx="415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04760" y="3900600"/>
            <a:ext cx="180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58680" y="3900600"/>
            <a:ext cx="1238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35280" y="39006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02000" y="3900600"/>
            <a:ext cx="144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211960" y="3900600"/>
            <a:ext cx="180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7960" y="3919680"/>
            <a:ext cx="1800" cy="258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004760" y="3919680"/>
            <a:ext cx="1800" cy="258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502000" y="3919680"/>
            <a:ext cx="1440" cy="258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211960" y="3919680"/>
            <a:ext cx="1800" cy="258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0800" y="4309920"/>
            <a:ext cx="78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 Black"/>
                <a:ea typeface="華康儷粗黑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20040" y="4286160"/>
            <a:ext cx="90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成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07960" y="4178160"/>
            <a:ext cx="180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25600" y="4178160"/>
            <a:ext cx="415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04760" y="4178160"/>
            <a:ext cx="180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58680" y="4178160"/>
            <a:ext cx="12384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4178160"/>
            <a:ext cx="66672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502000" y="4178160"/>
            <a:ext cx="144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519280" y="4178160"/>
            <a:ext cx="56926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211960" y="4178160"/>
            <a:ext cx="180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7960" y="4197240"/>
            <a:ext cx="1800" cy="265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04760" y="4197240"/>
            <a:ext cx="1800" cy="265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211960" y="4197240"/>
            <a:ext cx="1800" cy="265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50800" y="4621320"/>
            <a:ext cx="78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 Black"/>
                <a:ea typeface="華康儷粗黑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20040" y="4616280"/>
            <a:ext cx="90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鉅林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07960" y="4462560"/>
            <a:ext cx="180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004760" y="4462560"/>
            <a:ext cx="180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11960" y="4462560"/>
            <a:ext cx="180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004760" y="4481640"/>
            <a:ext cx="180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502000" y="4481640"/>
            <a:ext cx="144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211960" y="4481640"/>
            <a:ext cx="180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50800" y="5078520"/>
            <a:ext cx="78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 Black"/>
                <a:ea typeface="華康儷粗黑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20040" y="5059440"/>
            <a:ext cx="90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福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07960" y="4861080"/>
            <a:ext cx="1800" cy="2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5600" y="4861080"/>
            <a:ext cx="415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004760" y="4861080"/>
            <a:ext cx="1800" cy="2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58680" y="4861080"/>
            <a:ext cx="1238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835280" y="486108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502000" y="4861080"/>
            <a:ext cx="1440" cy="2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211960" y="4861080"/>
            <a:ext cx="1800" cy="2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07960" y="4881600"/>
            <a:ext cx="1800" cy="50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941400" y="4881600"/>
            <a:ext cx="1440" cy="50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02000" y="4881600"/>
            <a:ext cx="1440" cy="50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211960" y="4881600"/>
            <a:ext cx="1800" cy="50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44680" y="5504040"/>
            <a:ext cx="78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 Black"/>
                <a:ea typeface="華康儷粗黑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220040" y="5478480"/>
            <a:ext cx="90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普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07960" y="5389560"/>
            <a:ext cx="1800" cy="2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41400" y="5389560"/>
            <a:ext cx="1440" cy="2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502000" y="5389560"/>
            <a:ext cx="1440" cy="2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211960" y="5389560"/>
            <a:ext cx="1800" cy="2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7960" y="5410080"/>
            <a:ext cx="180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941400" y="5410080"/>
            <a:ext cx="144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02000" y="5410080"/>
            <a:ext cx="144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11960" y="5410080"/>
            <a:ext cx="180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34160" y="5945040"/>
            <a:ext cx="89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 Black"/>
                <a:ea typeface="華康儷粗黑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20040" y="5952960"/>
            <a:ext cx="90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工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7960" y="5665680"/>
            <a:ext cx="180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25600" y="5665680"/>
            <a:ext cx="415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941400" y="5665680"/>
            <a:ext cx="144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58680" y="5665680"/>
            <a:ext cx="12384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835280" y="5665680"/>
            <a:ext cx="66672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502000" y="5665680"/>
            <a:ext cx="144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211960" y="5665680"/>
            <a:ext cx="180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7960" y="5684760"/>
            <a:ext cx="1800" cy="507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941400" y="5684760"/>
            <a:ext cx="1440" cy="507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02000" y="5684760"/>
            <a:ext cx="1440" cy="507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211960" y="5684760"/>
            <a:ext cx="1800" cy="507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3240" y="6377040"/>
            <a:ext cx="89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 Black"/>
                <a:ea typeface="華康儷粗黑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220040" y="6354720"/>
            <a:ext cx="90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亞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94000" y="6377040"/>
            <a:ext cx="75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 Black"/>
                <a:ea typeface="華康儷粗黑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89840" y="6348240"/>
            <a:ext cx="111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上海普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07960" y="6194520"/>
            <a:ext cx="180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25600" y="6194520"/>
            <a:ext cx="415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941400" y="6194520"/>
            <a:ext cx="144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958680" y="6194520"/>
            <a:ext cx="1238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835280" y="619452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02000" y="6194520"/>
            <a:ext cx="144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211960" y="6194520"/>
            <a:ext cx="180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07960" y="6213600"/>
            <a:ext cx="180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941400" y="6213600"/>
            <a:ext cx="144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02000" y="6213600"/>
            <a:ext cx="144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211960" y="6213600"/>
            <a:ext cx="180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07960" y="6593040"/>
            <a:ext cx="1800" cy="2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502000" y="6593040"/>
            <a:ext cx="1440" cy="2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519280" y="6593040"/>
            <a:ext cx="5692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211960" y="6593040"/>
            <a:ext cx="1800" cy="2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02000" y="6613560"/>
            <a:ext cx="1440" cy="379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211960" y="6613560"/>
            <a:ext cx="1800" cy="379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444600"/>
            <a:ext cx="7759800" cy="676080"/>
          </a:xfrm>
          <a:prstGeom prst="rect">
            <a:avLst/>
          </a:prstGeom>
          <a:solidFill>
            <a:srgbClr val="f5f5f5"/>
          </a:solidFill>
          <a:ln w="0">
            <a:noFill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ba0023"/>
                </a:solidFill>
                <a:latin typeface="標楷體"/>
                <a:ea typeface="標楷體"/>
              </a:rPr>
              <a:t>普揚策略聯盟夥伴產品整合優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39640" y="1295280"/>
            <a:ext cx="7677360" cy="0"/>
          </a:xfrm>
          <a:prstGeom prst="line">
            <a:avLst/>
          </a:prstGeom>
          <a:ln w="12600">
            <a:solidFill>
              <a:srgbClr val="fff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832120" y="1295280"/>
            <a:ext cx="0" cy="5315040"/>
          </a:xfrm>
          <a:prstGeom prst="line">
            <a:avLst/>
          </a:prstGeom>
          <a:ln w="12600">
            <a:solidFill>
              <a:srgbClr val="fff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210520" y="1295280"/>
            <a:ext cx="0" cy="5353200"/>
          </a:xfrm>
          <a:prstGeom prst="line">
            <a:avLst/>
          </a:prstGeom>
          <a:ln w="12600">
            <a:solidFill>
              <a:srgbClr val="fff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46120" y="1689120"/>
            <a:ext cx="7657920" cy="0"/>
          </a:xfrm>
          <a:prstGeom prst="line">
            <a:avLst/>
          </a:prstGeom>
          <a:ln w="12600">
            <a:solidFill>
              <a:srgbClr val="fff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70080" y="1295280"/>
            <a:ext cx="0" cy="5315040"/>
          </a:xfrm>
          <a:prstGeom prst="line">
            <a:avLst/>
          </a:prstGeom>
          <a:ln w="12600">
            <a:solidFill>
              <a:srgbClr val="fff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39640" y="1295280"/>
            <a:ext cx="12960" cy="5378400"/>
          </a:xfrm>
          <a:prstGeom prst="line">
            <a:avLst/>
          </a:prstGeom>
          <a:ln w="12600">
            <a:solidFill>
              <a:srgbClr val="fff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9640" y="2273400"/>
            <a:ext cx="7677360" cy="0"/>
          </a:xfrm>
          <a:prstGeom prst="line">
            <a:avLst/>
          </a:prstGeom>
          <a:ln w="12600">
            <a:solidFill>
              <a:srgbClr val="fff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9640" y="3035160"/>
            <a:ext cx="7677360" cy="0"/>
          </a:xfrm>
          <a:prstGeom prst="line">
            <a:avLst/>
          </a:prstGeom>
          <a:ln w="12600">
            <a:solidFill>
              <a:srgbClr val="fff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39640" y="3606840"/>
            <a:ext cx="7677360" cy="0"/>
          </a:xfrm>
          <a:prstGeom prst="line">
            <a:avLst/>
          </a:prstGeom>
          <a:ln w="12600">
            <a:solidFill>
              <a:srgbClr val="fff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9640" y="3924360"/>
            <a:ext cx="7677360" cy="0"/>
          </a:xfrm>
          <a:prstGeom prst="line">
            <a:avLst/>
          </a:prstGeom>
          <a:ln w="12600">
            <a:solidFill>
              <a:srgbClr val="fff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52600" y="4241880"/>
            <a:ext cx="7657920" cy="0"/>
          </a:xfrm>
          <a:prstGeom prst="line">
            <a:avLst/>
          </a:prstGeom>
          <a:ln w="12600">
            <a:solidFill>
              <a:srgbClr val="fff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9640" y="4572000"/>
            <a:ext cx="7677360" cy="0"/>
          </a:xfrm>
          <a:prstGeom prst="line">
            <a:avLst/>
          </a:prstGeom>
          <a:ln w="12600">
            <a:solidFill>
              <a:srgbClr val="fff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9640" y="4876920"/>
            <a:ext cx="7677360" cy="0"/>
          </a:xfrm>
          <a:prstGeom prst="line">
            <a:avLst/>
          </a:prstGeom>
          <a:ln w="12600">
            <a:solidFill>
              <a:srgbClr val="fff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52600" y="5435640"/>
            <a:ext cx="7664400" cy="0"/>
          </a:xfrm>
          <a:prstGeom prst="line">
            <a:avLst/>
          </a:prstGeom>
          <a:ln w="12600">
            <a:solidFill>
              <a:srgbClr val="fff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39640" y="5765760"/>
            <a:ext cx="7677360" cy="0"/>
          </a:xfrm>
          <a:prstGeom prst="line">
            <a:avLst/>
          </a:prstGeom>
          <a:ln w="12600">
            <a:solidFill>
              <a:srgbClr val="fff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6120" y="6299280"/>
            <a:ext cx="7664400" cy="0"/>
          </a:xfrm>
          <a:prstGeom prst="line">
            <a:avLst/>
          </a:prstGeom>
          <a:ln w="12600">
            <a:solidFill>
              <a:srgbClr val="fff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6642000"/>
            <a:ext cx="7677360" cy="0"/>
          </a:xfrm>
          <a:prstGeom prst="line">
            <a:avLst/>
          </a:prstGeom>
          <a:ln w="12600">
            <a:solidFill>
              <a:srgbClr val="fff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  <p:sndAc>
      <p:stSnd>
        <p:snd r:embed="rId1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28ec6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19280" y="1943280"/>
            <a:ext cx="6095880" cy="403848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57440" y="2228760"/>
            <a:ext cx="6000840" cy="40197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38600" y="1504800"/>
            <a:ext cx="3448080" cy="2533680"/>
          </a:xfrm>
          <a:prstGeom prst="ellipse">
            <a:avLst/>
          </a:prstGeom>
          <a:gradFill rotWithShape="0">
            <a:gsLst>
              <a:gs pos="0">
                <a:srgbClr val="ffffa3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828960"/>
            <a:ext cx="3486240" cy="2610000"/>
          </a:xfrm>
          <a:prstGeom prst="ellipse">
            <a:avLst/>
          </a:prstGeom>
          <a:gradFill rotWithShape="0">
            <a:gsLst>
              <a:gs pos="0">
                <a:srgbClr val="ffffa3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24160" y="2283840"/>
            <a:ext cx="26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6699"/>
                </a:solidFill>
                <a:latin typeface="Arial Black"/>
                <a:ea typeface="標楷體"/>
              </a:rPr>
              <a:t>企業應用軟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10120" y="3772080"/>
            <a:ext cx="3486240" cy="2666880"/>
          </a:xfrm>
          <a:prstGeom prst="ellipse">
            <a:avLst/>
          </a:prstGeom>
          <a:gradFill rotWithShape="0">
            <a:gsLst>
              <a:gs pos="0">
                <a:srgbClr val="ffffa3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67080" y="4791960"/>
            <a:ext cx="26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6699"/>
                </a:solidFill>
                <a:latin typeface="Arial Black"/>
                <a:ea typeface="標楷體"/>
              </a:rPr>
              <a:t>電子商務軟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45960" y="4752360"/>
            <a:ext cx="26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6699"/>
                </a:solidFill>
                <a:latin typeface="Arial Black"/>
                <a:ea typeface="標楷體"/>
              </a:rPr>
              <a:t>網際網路軟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44600"/>
            <a:ext cx="7759800" cy="676080"/>
          </a:xfrm>
          <a:prstGeom prst="rect">
            <a:avLst/>
          </a:prstGeom>
          <a:solidFill>
            <a:srgbClr val="f5f5f5"/>
          </a:solidFill>
          <a:ln w="0">
            <a:noFill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ba0023"/>
                </a:solidFill>
                <a:latin typeface="標楷體"/>
                <a:ea typeface="標楷體"/>
              </a:rPr>
              <a:t>二十一世紀的明星產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  <p:sndAc>
          <p:stSnd>
            <p:snd r:embed="rId1" name="CAMERA.WAV"/>
          </p:stSnd>
        </p:sndAc>
      </p:transition>
    </mc:Choice>
    <mc:Fallback>
      <p:transition spd="slow">
        <p:strips dir="rd"/>
        <p:sndAc>
          <p:stSnd>
            <p:snd r:embed="rId1" name="CAMERA.WAV"/>
          </p:stSnd>
        </p:sndAc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28ec6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896760" y="1343160"/>
            <a:ext cx="7473960" cy="5195880"/>
            <a:chOff x="896760" y="1343160"/>
            <a:chExt cx="7473960" cy="5195880"/>
          </a:xfrm>
        </p:grpSpPr>
        <p:sp>
          <p:nvSpPr>
            <p:cNvPr id="54" name=""/>
            <p:cNvSpPr/>
            <p:nvPr/>
          </p:nvSpPr>
          <p:spPr>
            <a:xfrm>
              <a:off x="3463920" y="1343160"/>
              <a:ext cx="2340000" cy="1619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  <a:effectLst>
              <a:outerShdw dist="107932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華康儷粗黑"/>
                  <a:ea typeface="華康儷粗黑"/>
                </a:rPr>
                <a:t>軟體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華康儷粗黑"/>
                  <a:ea typeface="華康儷粗黑"/>
                </a:rPr>
                <a:t>1997-1998</a:t>
              </a:r>
              <a:r>
                <a:rPr b="0" lang="zh-TW" sz="2400" spc="-1" strike="noStrike">
                  <a:solidFill>
                    <a:srgbClr val="ffffff"/>
                  </a:solidFill>
                  <a:latin typeface="華康儷粗黑"/>
                  <a:ea typeface="華康儷粗黑"/>
                </a:rPr>
                <a:t>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華康儷粗黑"/>
                  <a:ea typeface="華康儷粗黑"/>
                </a:rPr>
                <a:t>增資</a:t>
              </a:r>
              <a:r>
                <a:rPr b="0" lang="zh-TW" sz="2400" spc="-1" strike="noStrike">
                  <a:solidFill>
                    <a:srgbClr val="ffffff"/>
                  </a:solidFill>
                  <a:latin typeface="華康儷粗黑"/>
                  <a:ea typeface="華康儷粗黑"/>
                </a:rPr>
                <a:t>72</a:t>
              </a:r>
              <a:r>
                <a:rPr b="0" lang="zh-TW" sz="2400" spc="-1" strike="noStrike">
                  <a:solidFill>
                    <a:srgbClr val="ffffff"/>
                  </a:solidFill>
                  <a:latin typeface="華康儷粗黑"/>
                  <a:ea typeface="華康儷粗黑"/>
                </a:rPr>
                <a:t>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76560" y="3129120"/>
              <a:ext cx="2340000" cy="161892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  <a:effectLst>
              <a:outerShdw dist="107932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華康儷粗黑"/>
                  <a:ea typeface="華康儷粗黑"/>
                </a:rPr>
                <a:t>政府</a:t>
              </a:r>
              <a:r>
                <a:rPr b="0" lang="zh-TW" sz="2400" spc="-1" strike="noStrike">
                  <a:solidFill>
                    <a:srgbClr val="ffffff"/>
                  </a:solidFill>
                  <a:latin typeface="華康儷粗黑"/>
                  <a:ea typeface="華康儷粗黑"/>
                </a:rPr>
                <a:t>5</a:t>
              </a:r>
              <a:r>
                <a:rPr b="0" lang="zh-TW" sz="2400" spc="-1" strike="noStrike">
                  <a:solidFill>
                    <a:srgbClr val="ffffff"/>
                  </a:solidFill>
                  <a:latin typeface="華康儷粗黑"/>
                  <a:ea typeface="華康儷粗黑"/>
                </a:rPr>
                <a:t>年</a:t>
              </a:r>
              <a:r>
                <a:rPr b="0" lang="zh-TW" sz="2400" spc="-1" strike="noStrike">
                  <a:solidFill>
                    <a:srgbClr val="ffffff"/>
                  </a:solidFill>
                  <a:latin typeface="華康儷粗黑"/>
                  <a:ea typeface="華康儷粗黑"/>
                </a:rPr>
                <a:t>158</a:t>
              </a:r>
              <a:r>
                <a:rPr b="0" lang="zh-TW" sz="2400" spc="-1" strike="noStrike">
                  <a:solidFill>
                    <a:srgbClr val="ffffff"/>
                  </a:solidFill>
                  <a:latin typeface="華康儷粗黑"/>
                  <a:ea typeface="華康儷粗黑"/>
                </a:rPr>
                <a:t>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華康儷粗黑"/>
                  <a:ea typeface="華康儷粗黑"/>
                </a:rPr>
                <a:t>委外市場興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761000" y="3119400"/>
              <a:ext cx="2340000" cy="1619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  <a:effectLst>
              <a:outerShdw dist="107932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343080" indent="-343080"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ffffff"/>
                  </a:solidFill>
                  <a:latin typeface="華康儷粗黑"/>
                  <a:ea typeface="華康儷粗黑"/>
                </a:rPr>
                <a:t>INTERNET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ffffff"/>
                  </a:solidFill>
                  <a:latin typeface="華康儷粗黑"/>
                  <a:ea typeface="華康儷粗黑"/>
                </a:rPr>
                <a:t>INTRANET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ffffff"/>
                  </a:solidFill>
                  <a:latin typeface="華康儷粗黑"/>
                  <a:ea typeface="華康儷粗黑"/>
                </a:rPr>
                <a:t>EXTRA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900" spc="-1" strike="noStrike">
                  <a:solidFill>
                    <a:srgbClr val="ffffff"/>
                  </a:solidFill>
                  <a:latin typeface="華康儷粗黑"/>
                  <a:ea typeface="華康儷粗黑"/>
                </a:rPr>
                <a:t>政府電子化五年</a:t>
              </a:r>
              <a:r>
                <a:rPr b="0" lang="zh-TW" sz="1900" spc="-1" strike="noStrike">
                  <a:solidFill>
                    <a:srgbClr val="ffffff"/>
                  </a:solidFill>
                  <a:latin typeface="華康儷粗黑"/>
                  <a:ea typeface="華康儷粗黑"/>
                </a:rPr>
                <a:t>430</a:t>
              </a:r>
              <a:r>
                <a:rPr b="0" lang="zh-TW" sz="1900" spc="-1" strike="noStrike">
                  <a:solidFill>
                    <a:srgbClr val="ffffff"/>
                  </a:solidFill>
                  <a:latin typeface="華康儷粗黑"/>
                  <a:ea typeface="華康儷粗黑"/>
                </a:rPr>
                <a:t>億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ffffff"/>
                  </a:solidFill>
                  <a:latin typeface="華康儷粗黑"/>
                  <a:ea typeface="華康儷粗黑"/>
                </a:rPr>
                <a:t>高科技興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ffffff"/>
                  </a:solidFill>
                  <a:latin typeface="華康儷粗黑"/>
                  <a:ea typeface="華康儷粗黑"/>
                </a:rPr>
                <a:t>全面電腦化外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96760" y="4919760"/>
              <a:ext cx="2340000" cy="1619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  <a:effectLst>
              <a:outerShdw dist="107932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華康儷粗黑"/>
                  <a:ea typeface="華康儷粗黑"/>
                </a:rPr>
                <a:t>300</a:t>
              </a:r>
              <a:r>
                <a:rPr b="0" lang="zh-TW" sz="2400" spc="-1" strike="noStrike">
                  <a:solidFill>
                    <a:srgbClr val="ffffff"/>
                  </a:solidFill>
                  <a:latin typeface="華康儷粗黑"/>
                  <a:ea typeface="華康儷粗黑"/>
                </a:rPr>
                <a:t>萬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華康儷粗黑"/>
                  <a:ea typeface="華康儷粗黑"/>
                </a:rPr>
                <a:t>上網商業機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63920" y="4919760"/>
              <a:ext cx="2340000" cy="1619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  <a:effectLst>
              <a:outerShdw dist="107932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華康儷粗黑"/>
                  <a:ea typeface="華康儷粗黑"/>
                </a:rPr>
                <a:t>軟五輔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華康儷粗黑"/>
                  <a:ea typeface="華康儷粗黑"/>
                </a:rPr>
                <a:t>軟體業上櫃熱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31080" y="4905360"/>
              <a:ext cx="2339640" cy="1619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  <a:effectLst>
              <a:outerShdw dist="107932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華康儷粗黑"/>
                  <a:ea typeface="華康儷粗黑"/>
                </a:rPr>
                <a:t>施振榮先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華康儷粗黑"/>
                  <a:ea typeface="華康儷粗黑"/>
                </a:rPr>
                <a:t>期望設立</a:t>
              </a:r>
              <a:r>
                <a:rPr b="0" lang="zh-TW" sz="2400" spc="-1" strike="noStrike">
                  <a:solidFill>
                    <a:srgbClr val="ffffff"/>
                  </a:solidFill>
                  <a:latin typeface="華康儷粗黑"/>
                  <a:ea typeface="華康儷粗黑"/>
                </a:rPr>
                <a:t>100</a:t>
              </a:r>
              <a:r>
                <a:rPr b="0" lang="zh-TW" sz="2400" spc="-1" strike="noStrike">
                  <a:solidFill>
                    <a:srgbClr val="ffffff"/>
                  </a:solidFill>
                  <a:latin typeface="華康儷粗黑"/>
                  <a:ea typeface="華康儷粗黑"/>
                </a:rPr>
                <a:t>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華康儷粗黑"/>
                  <a:ea typeface="華康儷粗黑"/>
                </a:rPr>
                <a:t>軟體公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0" y="444600"/>
            <a:ext cx="7759800" cy="676080"/>
          </a:xfrm>
          <a:prstGeom prst="rect">
            <a:avLst/>
          </a:prstGeom>
          <a:solidFill>
            <a:srgbClr val="f5f5f5"/>
          </a:solidFill>
          <a:ln w="0">
            <a:noFill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ba0023"/>
                </a:solidFill>
                <a:latin typeface="標楷體"/>
                <a:ea typeface="標楷體"/>
              </a:rPr>
              <a:t>軟體業機會與時代來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  <p:sndAc>
          <p:stSnd>
            <p:snd r:embed="rId1" name="CAMERA.WAV"/>
          </p:stSnd>
        </p:sndAc>
      </p:transition>
    </mc:Choice>
    <mc:Fallback>
      <p:transition spd="slow">
        <p:strips dir="rd"/>
        <p:sndAc>
          <p:stSnd>
            <p:snd r:embed="rId1" name="CAMERA.WAV"/>
          </p:stSnd>
        </p:sndAc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28ec6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05480" y="1338840"/>
            <a:ext cx="8860320" cy="5171040"/>
            <a:chOff x="105480" y="1338840"/>
            <a:chExt cx="8860320" cy="5171040"/>
          </a:xfrm>
        </p:grpSpPr>
        <p:sp>
          <p:nvSpPr>
            <p:cNvPr id="62" name=""/>
            <p:cNvSpPr/>
            <p:nvPr/>
          </p:nvSpPr>
          <p:spPr>
            <a:xfrm>
              <a:off x="105480" y="2431800"/>
              <a:ext cx="8860320" cy="407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【記者林玲妃台北報導】消息人士指出，在投入「新歡」網路與軟體事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業懷抱之際，宏碁集團已規劃將解散半導體次集團。從此宏碁將真正淡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出半導體行業，集團內的宏測科技與台宏半導體也將尋找新買主，新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碁集團將只剩下六大次集團，其中軟體與網路就佔據兩席。而宏碁原訂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五年投資半導體一千億元的規劃，亦將全數改觀。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在將德碁半導體五成多股權中的一半持股轉讓</a:t>
              </a: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％給台積電後，目前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碁集團也正積極尋找買主，希望把分別作半導體測試、封裝業務的宏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科技、台宏半導體，交由更專業的夥伴負責。至於合作模式，據推測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會像德碁一般，宏碁仍擁有部份股權，但不主導經營事宜。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在確定增加宏碁智融、宏碁連網兩大次集團後，宏碁高層目前正在規劃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次集團的組織，決定投資企業的歸屬。而原先擁有宏電、明碁、宏碁半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導體、宏科、宏碁國際等五大次集團的宏碁集團，原本將因此形成七大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次集團，但目前卻幾乎已確定將把半導體次集團解散，其旗下公司將劃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分到獨立事業單位，使次集團數目成為六個。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雖然宏碁目前仍擁有德碁三成的股權、在九個董事席位中也擁有三席，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但事實上德碁經營面已全交由台積電主導，因此是否要將德碁劃分為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碁集團一員，本就有些尷尬。目前集團內的看法是，集團內的半導體事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業龍頭德碁已非由宏碁主導，因此沒必要再堅持擁有一半導體次集團。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宏碁半導體次集團目前旗下有五家公司：揚智、德碁、宏測、台宏以及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作ＤＲＡＭ模組的宇瞻科技。其中資本額卅億元的宏測是由宏電、德碁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、交銀、中華開發投資，而資本額五十億元的台宏則是由宏電、韓國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南（後轉售給美國子公司安可電子）、台積電、慶豐半導體、聯測科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各以三○％、二五％、二 ○％、一二‧五％、一二‧五％投資。至於洽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的買主也應以現有股東最有可能。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宏測、台宏兩家公司成立初期都是為德碁服務，因此龍頭既走，週邊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司留在集團內發展的意義就不大。不過，擁有強大下游實力的宏碁，仍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希望發展上下游整合能力，因此宏碁不至於全數放棄，將擁有部份股權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。在半導體次集團解散後，原有的半導體公司將被劃分為獨立事業單位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。宏碁集團中除了嫡系的「家族會員」（</a:t>
              </a: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family members</a:t>
              </a: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）外，也會納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入持股不小、但由別人主導經營的「俱樂部會員」（</a:t>
              </a: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club members</a:t>
              </a: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）。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解散半導體次集團對宏碁而言，是一個劃時代的句點。十二年前、八年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前分別介入半導體設計與製造的宏碁，在台積電、聯電陸續喊出十年四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千億、五千億元的投資後，一年半前所規劃在三年內投資半導體七百億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元、五年內上千億元的藍圖，如今已全數改觀。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半導體營收曾佔宏碁集團總營收的一三％，資金需求與獲利也曾各佔集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團的四、五成左右，但未來這些數字都將陸續降低。在力拚多年之後，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宏碁不再「硬碰硬」，決定退出非其專長與核心競爭力的半導體製造事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業。但屬於智慧資產的ＩＣ設計業則仍是宏碁會加碼投資的部份，不過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資金需求相較之下不大。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在減少了半導體大幅投資後，宏碁將轉採「跳蛙策略」，直接邁向軟體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、網路、服務等具未來性的產業。施振榮日前即表示，宏碁打算在未來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兩年投資網路與服務事業兩億美元，投資軟體、智慧財產權相關事業亦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是兩億美元，而後者五年內會達十億美元的資金規模。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66920" y="1338840"/>
              <a:ext cx="6396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ffff00"/>
                  </a:solidFill>
                  <a:latin typeface="Arial Black"/>
                  <a:ea typeface="華康儷粗黑"/>
                </a:rPr>
                <a:t>旗下宏測、台宏擬比照德碁尋求買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ffff00"/>
                  </a:solidFill>
                  <a:latin typeface="Arial Black"/>
                  <a:ea typeface="華康儷粗黑"/>
                </a:rPr>
                <a:t>　　　　放棄經營權 改投資網路軟體等產業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0" y="444600"/>
            <a:ext cx="7759800" cy="676080"/>
          </a:xfrm>
          <a:prstGeom prst="rect">
            <a:avLst/>
          </a:prstGeom>
          <a:solidFill>
            <a:srgbClr val="f5f5f5"/>
          </a:solidFill>
          <a:ln w="0">
            <a:noFill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ba0023"/>
                </a:solidFill>
                <a:latin typeface="標楷體"/>
                <a:ea typeface="標楷體"/>
              </a:rPr>
              <a:t>宏碁將解散半導體次集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  <p:sndAc>
          <p:stSnd>
            <p:snd r:embed="rId1" name="CAMERA.WAV"/>
          </p:stSnd>
        </p:sndAc>
      </p:transition>
    </mc:Choice>
    <mc:Fallback>
      <p:transition spd="slow">
        <p:strips dir="rd"/>
        <p:sndAc>
          <p:stSnd>
            <p:snd r:embed="rId1" name="CAMERA.WAV"/>
          </p:stSnd>
        </p:sndAc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28ec6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0" y="0"/>
            <a:ext cx="9422280" cy="6800040"/>
            <a:chOff x="0" y="0"/>
            <a:chExt cx="9422280" cy="680004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345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 flipV="1" rot="19394400">
              <a:off x="591840" y="2406600"/>
              <a:ext cx="855720" cy="1738080"/>
            </a:xfrm>
            <a:custGeom>
              <a:avLst/>
              <a:gdLst>
                <a:gd name="textAreaLeft" fmla="*/ 280440 w 855720"/>
                <a:gd name="textAreaRight" fmla="*/ 575280 w 855720"/>
                <a:gd name="textAreaTop" fmla="*/ 569880 h 1738080"/>
                <a:gd name="textAreaBottom" fmla="*/ 1168200 h 17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004" y="21600"/>
                  </a:lnTo>
                  <a:lnTo>
                    <a:pt x="9596" y="2160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3463920"/>
              <a:ext cx="9144000" cy="1658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52560" y="4154400"/>
              <a:ext cx="678168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4736880" y="2171160"/>
              <a:ext cx="123264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華康儷粗黑"/>
                  <a:ea typeface="華康儷粗黑"/>
                </a:rPr>
                <a:t>A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華康儷粗黑"/>
                  <a:ea typeface="華康儷粗黑"/>
                </a:rPr>
                <a:t>I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華康儷粗黑"/>
                  <a:ea typeface="華康儷粗黑"/>
                </a:rPr>
                <a:t>I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99120" y="769320"/>
              <a:ext cx="2268720" cy="2781360"/>
              <a:chOff x="6099120" y="769320"/>
              <a:chExt cx="2268720" cy="2781360"/>
            </a:xfrm>
          </p:grpSpPr>
          <p:sp>
            <p:nvSpPr>
              <p:cNvPr id="72" name=""/>
              <p:cNvSpPr/>
              <p:nvPr/>
            </p:nvSpPr>
            <p:spPr>
              <a:xfrm>
                <a:off x="6099120" y="769320"/>
                <a:ext cx="2268720" cy="278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電子商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B2B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　　　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e-busin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B2C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　　　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e-servi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　　　　 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e-provid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　　　　 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e-ISO9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 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　　　　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e-custom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6605640" y="1722600"/>
                <a:ext cx="380520" cy="1202760"/>
                <a:chOff x="6605640" y="1722600"/>
                <a:chExt cx="380520" cy="120276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6605640" y="1722600"/>
                  <a:ext cx="38052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6774840" y="1722600"/>
                  <a:ext cx="0" cy="12027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774840" y="2041200"/>
                  <a:ext cx="18288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774840" y="2345040"/>
                  <a:ext cx="19692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774840" y="2619000"/>
                  <a:ext cx="19692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774840" y="2910600"/>
                  <a:ext cx="19692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" name=""/>
            <p:cNvGrpSpPr/>
            <p:nvPr/>
          </p:nvGrpSpPr>
          <p:grpSpPr>
            <a:xfrm>
              <a:off x="384480" y="3344760"/>
              <a:ext cx="2787120" cy="866880"/>
              <a:chOff x="384480" y="3344760"/>
              <a:chExt cx="2787120" cy="866880"/>
            </a:xfrm>
          </p:grpSpPr>
          <p:pic>
            <p:nvPicPr>
              <p:cNvPr id="8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61960" y="3344760"/>
                <a:ext cx="2560680" cy="86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384480" y="3593520"/>
                <a:ext cx="278712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華康儷粗黑"/>
                    <a:ea typeface="華康儷粗黑"/>
                  </a:rPr>
                  <a:t>WWW+PRIC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3295800" y="3376440"/>
              <a:ext cx="3240720" cy="766800"/>
              <a:chOff x="3295800" y="3376440"/>
              <a:chExt cx="3240720" cy="766800"/>
            </a:xfrm>
          </p:grpSpPr>
          <p:pic>
            <p:nvPicPr>
              <p:cNvPr id="8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295800" y="3376440"/>
                <a:ext cx="3071520" cy="76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3810960" y="3445560"/>
                <a:ext cx="272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99"/>
                    </a:solidFill>
                    <a:latin typeface="華康儷粗黑"/>
                    <a:ea typeface="華康儷粗黑"/>
                  </a:rPr>
                  <a:t>多媒體</a:t>
                </a:r>
                <a:r>
                  <a:rPr b="0" lang="zh-TW" sz="2000" spc="-1" strike="noStrike">
                    <a:solidFill>
                      <a:srgbClr val="000099"/>
                    </a:solidFill>
                    <a:latin typeface="華康儷粗黑"/>
                    <a:ea typeface="華康儷粗黑"/>
                  </a:rPr>
                  <a:t>+</a:t>
                </a:r>
                <a:r>
                  <a:rPr b="0" lang="zh-TW" sz="2000" spc="-1" strike="noStrike">
                    <a:solidFill>
                      <a:srgbClr val="000099"/>
                    </a:solidFill>
                    <a:latin typeface="華康儷粗黑"/>
                    <a:ea typeface="華康儷粗黑"/>
                  </a:rPr>
                  <a:t>遠距教學</a:t>
                </a:r>
                <a:r>
                  <a:rPr b="0" lang="zh-TW" sz="2000" spc="-1" strike="noStrike">
                    <a:solidFill>
                      <a:srgbClr val="000099"/>
                    </a:solidFill>
                    <a:latin typeface="華康儷粗黑"/>
                    <a:ea typeface="華康儷粗黑"/>
                  </a:rPr>
                  <a:t>+K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699120" y="1224000"/>
              <a:ext cx="4383360" cy="2040840"/>
              <a:chOff x="699120" y="1224000"/>
              <a:chExt cx="4383360" cy="2040840"/>
            </a:xfrm>
          </p:grpSpPr>
          <p:sp>
            <p:nvSpPr>
              <p:cNvPr id="87" name=""/>
              <p:cNvSpPr/>
              <p:nvPr/>
            </p:nvSpPr>
            <p:spPr>
              <a:xfrm>
                <a:off x="699120" y="1224000"/>
                <a:ext cx="4383360" cy="204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 u="sng">
                    <a:solidFill>
                      <a:srgbClr val="ffffff"/>
                    </a:solidFill>
                    <a:uFillTx/>
                    <a:latin typeface="華康儷粗黑"/>
                    <a:ea typeface="華康儷粗黑"/>
                  </a:rPr>
                  <a:t>網際網路</a:t>
                </a:r>
                <a:r>
                  <a:rPr b="0" lang="zh-TW" sz="1600" spc="-1" strike="noStrike" u="sng">
                    <a:solidFill>
                      <a:srgbClr val="ffffff"/>
                    </a:solidFill>
                    <a:uFillTx/>
                    <a:latin typeface="華康儷粗黑"/>
                    <a:ea typeface="華康儷粗黑"/>
                  </a:rPr>
                  <a:t>(</a:t>
                </a:r>
                <a:r>
                  <a:rPr b="0" lang="zh-TW" sz="1600" spc="-1" strike="noStrike" u="sng">
                    <a:solidFill>
                      <a:srgbClr val="ffffff"/>
                    </a:solidFill>
                    <a:uFillTx/>
                    <a:latin typeface="華康儷粗黑"/>
                    <a:ea typeface="華康儷粗黑"/>
                  </a:rPr>
                  <a:t>高速公路</a:t>
                </a:r>
                <a:r>
                  <a:rPr b="0" lang="zh-TW" sz="1600" spc="-1" strike="noStrike" u="sng">
                    <a:solidFill>
                      <a:srgbClr val="ffffff"/>
                    </a:solidFill>
                    <a:uFillTx/>
                    <a:latin typeface="華康儷粗黑"/>
                    <a:ea typeface="華康儷粗黑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頻寬　　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56K Mode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　　　　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1.5M AOSL(30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倍於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Modem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　　　　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CABLE Modem(10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倍於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ADSL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　　　　衛星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速度　　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BROWSER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入門證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　　　　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2Tier/3Tier/NTIER/M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" name=""/>
              <p:cNvGrpSpPr/>
              <p:nvPr/>
            </p:nvGrpSpPr>
            <p:grpSpPr>
              <a:xfrm>
                <a:off x="1803240" y="1643040"/>
                <a:ext cx="239760" cy="745920"/>
                <a:chOff x="1803240" y="1643040"/>
                <a:chExt cx="239760" cy="74592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1803240" y="1643040"/>
                  <a:ext cx="23976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909440" y="1643040"/>
                  <a:ext cx="0" cy="7459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909440" y="1874160"/>
                  <a:ext cx="11520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909440" y="2105280"/>
                  <a:ext cx="12456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909440" y="2378880"/>
                  <a:ext cx="12456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1779480" y="2833560"/>
                <a:ext cx="257400" cy="419040"/>
                <a:chOff x="1779480" y="2833560"/>
                <a:chExt cx="257400" cy="41904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1779480" y="2833560"/>
                  <a:ext cx="25740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893960" y="2833560"/>
                  <a:ext cx="0" cy="4190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893960" y="3043080"/>
                  <a:ext cx="12384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893960" y="3252600"/>
                  <a:ext cx="13320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" name=""/>
            <p:cNvGrpSpPr/>
            <p:nvPr/>
          </p:nvGrpSpPr>
          <p:grpSpPr>
            <a:xfrm>
              <a:off x="1578240" y="5976000"/>
              <a:ext cx="3149640" cy="824040"/>
              <a:chOff x="1578240" y="5976000"/>
              <a:chExt cx="3149640" cy="824040"/>
            </a:xfrm>
          </p:grpSpPr>
          <p:sp>
            <p:nvSpPr>
              <p:cNvPr id="100" name=""/>
              <p:cNvSpPr/>
              <p:nvPr/>
            </p:nvSpPr>
            <p:spPr>
              <a:xfrm>
                <a:off x="1578240" y="5976000"/>
                <a:ext cx="31496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3C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　　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compu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　 　 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commun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　 　 </a:t>
                </a: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consum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2502000" y="6176880"/>
                <a:ext cx="257040" cy="419040"/>
                <a:chOff x="2502000" y="6176880"/>
                <a:chExt cx="257040" cy="4190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502000" y="6176880"/>
                  <a:ext cx="25704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616120" y="6176880"/>
                  <a:ext cx="0" cy="4190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616120" y="6386400"/>
                  <a:ext cx="12348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616120" y="6595920"/>
                  <a:ext cx="13284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" name=""/>
            <p:cNvGrpSpPr/>
            <p:nvPr/>
          </p:nvGrpSpPr>
          <p:grpSpPr>
            <a:xfrm>
              <a:off x="6598800" y="2952720"/>
              <a:ext cx="2823480" cy="2376360"/>
              <a:chOff x="6598800" y="2952720"/>
              <a:chExt cx="2823480" cy="2376360"/>
            </a:xfrm>
          </p:grpSpPr>
          <p:sp>
            <p:nvSpPr>
              <p:cNvPr id="107" name=""/>
              <p:cNvSpPr/>
              <p:nvPr/>
            </p:nvSpPr>
            <p:spPr>
              <a:xfrm>
                <a:off x="6899400" y="3354480"/>
                <a:ext cx="2157120" cy="1974600"/>
              </a:xfrm>
              <a:prstGeom prst="wedgeEllipseCallout">
                <a:avLst>
                  <a:gd name="adj1" fmla="val 24907"/>
                  <a:gd name="adj2" fmla="val 60689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6598800" y="3690000"/>
                <a:ext cx="2823480" cy="1600560"/>
                <a:chOff x="6598800" y="3690000"/>
                <a:chExt cx="2823480" cy="16005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6598800" y="3690000"/>
                  <a:ext cx="2823480" cy="160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99"/>
                      </a:solidFill>
                      <a:latin typeface="華康儷粗黑"/>
                      <a:ea typeface="華康儷粗黑"/>
                    </a:rPr>
                    <a:t>資料交換　　</a:t>
                  </a:r>
                  <a:r>
                    <a:rPr b="0" lang="zh-TW" sz="1200" spc="-1" strike="noStrike">
                      <a:solidFill>
                        <a:srgbClr val="000099"/>
                      </a:solidFill>
                      <a:latin typeface="華康儷粗黑"/>
                      <a:ea typeface="華康儷粗黑"/>
                    </a:rPr>
                    <a:t>Interne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99"/>
                      </a:solidFill>
                      <a:latin typeface="華康儷粗黑"/>
                      <a:ea typeface="華康儷粗黑"/>
                    </a:rPr>
                    <a:t>　　　　　　</a:t>
                  </a:r>
                  <a:r>
                    <a:rPr b="0" lang="zh-TW" sz="1200" spc="-1" strike="noStrike">
                      <a:solidFill>
                        <a:srgbClr val="000099"/>
                      </a:solidFill>
                      <a:latin typeface="華康儷粗黑"/>
                      <a:ea typeface="華康儷粗黑"/>
                    </a:rPr>
                    <a:t>ED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99"/>
                      </a:solidFill>
                      <a:latin typeface="華康儷粗黑"/>
                      <a:ea typeface="華康儷粗黑"/>
                    </a:rPr>
                    <a:t>　　　　　　</a:t>
                  </a:r>
                  <a:r>
                    <a:rPr b="0" lang="zh-TW" sz="1200" spc="-1" strike="noStrike">
                      <a:solidFill>
                        <a:srgbClr val="000099"/>
                      </a:solidFill>
                      <a:latin typeface="華康儷粗黑"/>
                      <a:ea typeface="華康儷粗黑"/>
                    </a:rPr>
                    <a:t>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99"/>
                      </a:solidFill>
                      <a:latin typeface="華康儷粗黑"/>
                      <a:ea typeface="華康儷粗黑"/>
                    </a:rPr>
                    <a:t>　　　　　　</a:t>
                  </a:r>
                  <a:r>
                    <a:rPr b="0" lang="zh-TW" sz="1200" spc="-1" strike="noStrike">
                      <a:solidFill>
                        <a:srgbClr val="000099"/>
                      </a:solidFill>
                      <a:latin typeface="華康儷粗黑"/>
                      <a:ea typeface="華康儷粗黑"/>
                    </a:rPr>
                    <a:t>dataopen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99"/>
                      </a:solidFill>
                      <a:latin typeface="華康儷粗黑"/>
                      <a:ea typeface="華康儷粗黑"/>
                    </a:rPr>
                    <a:t>　　　　　　藍芽計劃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99"/>
                      </a:solidFill>
                      <a:latin typeface="華康儷粗黑"/>
                      <a:ea typeface="華康儷粗黑"/>
                    </a:rPr>
                    <a:t>資料展示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99"/>
                      </a:solidFill>
                      <a:latin typeface="華康儷粗黑"/>
                      <a:ea typeface="華康儷粗黑"/>
                    </a:rPr>
                    <a:t>　　　　－中介軟體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" name=""/>
                <p:cNvGrpSpPr/>
                <p:nvPr/>
              </p:nvGrpSpPr>
              <p:grpSpPr>
                <a:xfrm>
                  <a:off x="7750080" y="3814920"/>
                  <a:ext cx="257400" cy="904680"/>
                  <a:chOff x="7750080" y="3814920"/>
                  <a:chExt cx="257400" cy="9046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>
                    <a:off x="7750080" y="3814920"/>
                    <a:ext cx="257400" cy="0"/>
                  </a:xfrm>
                  <a:prstGeom prst="line">
                    <a:avLst/>
                  </a:prstGeom>
                  <a:ln w="1908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7864560" y="3814920"/>
                    <a:ext cx="0" cy="904680"/>
                  </a:xfrm>
                  <a:prstGeom prst="line">
                    <a:avLst/>
                  </a:prstGeom>
                  <a:ln w="1908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7864560" y="405432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7864560" y="4282920"/>
                    <a:ext cx="133200" cy="0"/>
                  </a:xfrm>
                  <a:prstGeom prst="line">
                    <a:avLst/>
                  </a:prstGeom>
                  <a:ln w="1908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864560" y="4489200"/>
                    <a:ext cx="133200" cy="0"/>
                  </a:xfrm>
                  <a:prstGeom prst="line">
                    <a:avLst/>
                  </a:prstGeom>
                  <a:ln w="1908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7864560" y="4708440"/>
                    <a:ext cx="133200" cy="0"/>
                  </a:xfrm>
                  <a:prstGeom prst="line">
                    <a:avLst/>
                  </a:prstGeom>
                  <a:ln w="1908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7" name=""/>
              <p:cNvGrpSpPr/>
              <p:nvPr/>
            </p:nvGrpSpPr>
            <p:grpSpPr>
              <a:xfrm>
                <a:off x="6906240" y="2952720"/>
                <a:ext cx="2210400" cy="803160"/>
                <a:chOff x="6906240" y="2952720"/>
                <a:chExt cx="2210400" cy="803160"/>
              </a:xfrm>
            </p:grpSpPr>
            <p:pic>
              <p:nvPicPr>
                <p:cNvPr id="11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34120" y="2976480"/>
                  <a:ext cx="782640" cy="77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132760" y="2952720"/>
                  <a:ext cx="782640" cy="77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" name=""/>
                <p:cNvSpPr/>
                <p:nvPr/>
              </p:nvSpPr>
              <p:spPr>
                <a:xfrm>
                  <a:off x="6906240" y="3185640"/>
                  <a:ext cx="1232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343080" indent="-343080" algn="ctr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華康儷粗黑"/>
                      <a:ea typeface="華康儷粗黑"/>
                    </a:rPr>
                    <a:t>DN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7884000" y="3169800"/>
                  <a:ext cx="1232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343080" indent="-343080" algn="ctr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華康儷粗黑"/>
                      <a:ea typeface="華康儷粗黑"/>
                    </a:rPr>
                    <a:t>DN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" name=""/>
            <p:cNvGrpSpPr/>
            <p:nvPr/>
          </p:nvGrpSpPr>
          <p:grpSpPr>
            <a:xfrm>
              <a:off x="225360" y="5118120"/>
              <a:ext cx="3929040" cy="898560"/>
              <a:chOff x="225360" y="5118120"/>
              <a:chExt cx="3929040" cy="89856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225360" y="5369040"/>
                <a:ext cx="3929040" cy="647640"/>
                <a:chOff x="225360" y="5369040"/>
                <a:chExt cx="3929040" cy="6476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225360" y="5369040"/>
                  <a:ext cx="792360" cy="647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3d4a8"/>
                    </a:gs>
                    <a:gs pos="5000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343080" indent="-343080" algn="ctr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華康儷粗黑"/>
                      <a:ea typeface="華康儷粗黑"/>
                    </a:rPr>
                    <a:t>WINDOW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 algn="ctr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華康儷粗黑"/>
                      <a:ea typeface="華康儷粗黑"/>
                    </a:rPr>
                    <a:t>termin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001880" y="5369040"/>
                  <a:ext cx="792000" cy="647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3d4a8"/>
                    </a:gs>
                    <a:gs pos="5000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343080" indent="-343080" algn="ctr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華康儷粗黑"/>
                      <a:ea typeface="華康儷粗黑"/>
                    </a:rPr>
                    <a:t>WINDOW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 algn="ctr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華康儷粗黑"/>
                      <a:ea typeface="華康儷粗黑"/>
                    </a:rPr>
                    <a:t>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806480" y="5369040"/>
                  <a:ext cx="792360" cy="647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3d4a8"/>
                    </a:gs>
                    <a:gs pos="5000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343080" indent="-343080"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華康儷粗黑"/>
                      <a:ea typeface="華康儷粗黑"/>
                    </a:rPr>
                    <a:t>P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589120" y="5369040"/>
                  <a:ext cx="792360" cy="647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3d4a8"/>
                    </a:gs>
                    <a:gs pos="5000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343080" indent="-343080"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華康儷粗黑"/>
                      <a:ea typeface="華康儷粗黑"/>
                    </a:rPr>
                    <a:t>PD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362400" y="5369040"/>
                  <a:ext cx="792000" cy="647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3d4a8"/>
                    </a:gs>
                    <a:gs pos="5000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343080" indent="-343080"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華康儷粗黑"/>
                      <a:ea typeface="華康儷粗黑"/>
                    </a:rPr>
                    <a:t>IC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華康儷粗黑"/>
                      <a:ea typeface="華康儷粗黑"/>
                    </a:rPr>
                    <a:t>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" name=""/>
              <p:cNvSpPr/>
              <p:nvPr/>
            </p:nvSpPr>
            <p:spPr>
              <a:xfrm>
                <a:off x="2239920" y="5118120"/>
                <a:ext cx="0" cy="26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4422600" y="5075280"/>
              <a:ext cx="3790440" cy="1639800"/>
              <a:chOff x="4422600" y="5075280"/>
              <a:chExt cx="3790440" cy="163980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4624560" y="5075280"/>
                <a:ext cx="213840" cy="315360"/>
                <a:chOff x="4624560" y="5075280"/>
                <a:chExt cx="213840" cy="3153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624560" y="5075280"/>
                  <a:ext cx="34560" cy="223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4657680" y="5189760"/>
                  <a:ext cx="123480" cy="99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768920" y="5204520"/>
                  <a:ext cx="69480" cy="18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" name=""/>
              <p:cNvSpPr/>
              <p:nvPr/>
            </p:nvSpPr>
            <p:spPr>
              <a:xfrm>
                <a:off x="4422600" y="5375160"/>
                <a:ext cx="792360" cy="576360"/>
              </a:xfrm>
              <a:prstGeom prst="rect">
                <a:avLst/>
              </a:prstGeom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大哥大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227560" y="5375160"/>
                <a:ext cx="792360" cy="576360"/>
              </a:xfrm>
              <a:prstGeom prst="rect">
                <a:avLst/>
              </a:prstGeom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BB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08760" y="5375160"/>
                <a:ext cx="792000" cy="576360"/>
              </a:xfrm>
              <a:prstGeom prst="rect">
                <a:avLst/>
              </a:prstGeom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5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PC-PBX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5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(</a:t>
                </a:r>
                <a:r>
                  <a:rPr b="0" lang="zh-TW" sz="15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交換機</a:t>
                </a:r>
                <a:r>
                  <a:rPr b="0" lang="zh-TW" sz="15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04000" y="5375160"/>
                <a:ext cx="792360" cy="576360"/>
              </a:xfrm>
              <a:prstGeom prst="rect">
                <a:avLst/>
              </a:prstGeom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5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數位電視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5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(</a:t>
                </a:r>
                <a:r>
                  <a:rPr b="0" lang="zh-TW" sz="15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家庭</a:t>
                </a:r>
                <a:r>
                  <a:rPr b="0" lang="zh-TW" sz="1500" spc="-1" strike="noStrike">
                    <a:solidFill>
                      <a:srgbClr val="ffffff"/>
                    </a:solidFill>
                    <a:latin typeface="華康儷粗黑"/>
                    <a:ea typeface="華康儷粗黑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4657680" y="6084720"/>
                <a:ext cx="633600" cy="630360"/>
                <a:chOff x="4657680" y="6084720"/>
                <a:chExt cx="633600" cy="6303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657680" y="6084720"/>
                  <a:ext cx="633600" cy="630360"/>
                </a:xfrm>
                <a:prstGeom prst="wedgeRectCallout">
                  <a:avLst>
                    <a:gd name="adj1" fmla="val -36217"/>
                    <a:gd name="adj2" fmla="val -71074"/>
                  </a:avLst>
                </a:prstGeom>
                <a:solidFill>
                  <a:srgbClr val="0000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343080" indent="-343080"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746600" y="6097680"/>
                  <a:ext cx="43812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343080" indent="-343080"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ffffff"/>
                      </a:solidFill>
                      <a:latin typeface="華康儷粗黑"/>
                      <a:ea typeface="華康儷粗黑"/>
                    </a:rPr>
                    <a:t>語音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ffffff"/>
                      </a:solidFill>
                      <a:latin typeface="華康儷粗黑"/>
                      <a:ea typeface="華康儷粗黑"/>
                    </a:rPr>
                    <a:t>文字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ffffff"/>
                      </a:solidFill>
                      <a:latin typeface="華康儷粗黑"/>
                      <a:ea typeface="華康儷粗黑"/>
                    </a:rPr>
                    <a:t>影像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6633360" y="6099120"/>
                <a:ext cx="1579680" cy="497160"/>
                <a:chOff x="6633360" y="6099120"/>
                <a:chExt cx="1579680" cy="4971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835680" y="6119640"/>
                  <a:ext cx="1144800" cy="422280"/>
                </a:xfrm>
                <a:prstGeom prst="wedgeRectCallout">
                  <a:avLst>
                    <a:gd name="adj1" fmla="val -36268"/>
                    <a:gd name="adj2" fmla="val -86087"/>
                  </a:avLst>
                </a:prstGeom>
                <a:solidFill>
                  <a:srgbClr val="0000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343080" indent="-343080"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633360" y="6099120"/>
                  <a:ext cx="157968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343080" indent="-343080"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ffffff"/>
                      </a:solidFill>
                      <a:latin typeface="華康儷粗黑"/>
                      <a:ea typeface="華康儷粗黑"/>
                    </a:rPr>
                    <a:t>(</a:t>
                  </a:r>
                  <a:r>
                    <a:rPr b="0" lang="zh-TW" sz="1200" spc="-1" strike="noStrike">
                      <a:solidFill>
                        <a:srgbClr val="ffffff"/>
                      </a:solidFill>
                      <a:latin typeface="華康儷粗黑"/>
                      <a:ea typeface="華康儷粗黑"/>
                    </a:rPr>
                    <a:t>嵌入式軟體</a:t>
                  </a:r>
                  <a:r>
                    <a:rPr b="0" lang="zh-TW" sz="1200" spc="-1" strike="noStrike">
                      <a:solidFill>
                        <a:srgbClr val="ffffff"/>
                      </a:solidFill>
                      <a:latin typeface="華康儷粗黑"/>
                      <a:ea typeface="華康儷粗黑"/>
                    </a:rPr>
                    <a:t>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ffffff"/>
                      </a:solidFill>
                      <a:latin typeface="華康儷粗黑"/>
                      <a:ea typeface="華康儷粗黑"/>
                    </a:rPr>
                    <a:t>(</a:t>
                  </a:r>
                  <a:r>
                    <a:rPr b="0" lang="zh-TW" sz="1200" spc="-1" strike="noStrike">
                      <a:solidFill>
                        <a:srgbClr val="ffffff"/>
                      </a:solidFill>
                      <a:latin typeface="華康儷粗黑"/>
                      <a:ea typeface="華康儷粗黑"/>
                    </a:rPr>
                    <a:t>半導體</a:t>
                  </a:r>
                  <a:r>
                    <a:rPr b="0" lang="zh-TW" sz="1200" spc="-1" strike="noStrike">
                      <a:solidFill>
                        <a:srgbClr val="ffffff"/>
                      </a:solidFill>
                      <a:latin typeface="華康儷粗黑"/>
                      <a:ea typeface="華康儷粗黑"/>
                    </a:rPr>
                    <a:t>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" name=""/>
            <p:cNvGrpSpPr/>
            <p:nvPr/>
          </p:nvGrpSpPr>
          <p:grpSpPr>
            <a:xfrm>
              <a:off x="282600" y="4229280"/>
              <a:ext cx="6983280" cy="920520"/>
              <a:chOff x="282600" y="4229280"/>
              <a:chExt cx="6983280" cy="920520"/>
            </a:xfrm>
          </p:grpSpPr>
          <p:sp>
            <p:nvSpPr>
              <p:cNvPr id="146" name=""/>
              <p:cNvSpPr/>
              <p:nvPr/>
            </p:nvSpPr>
            <p:spPr>
              <a:xfrm>
                <a:off x="282600" y="4229280"/>
                <a:ext cx="1405080" cy="920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華康儷粗黑"/>
                    <a:ea typeface="華康儷粗黑"/>
                  </a:rPr>
                  <a:t>CR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華康儷粗黑"/>
                    <a:ea typeface="華康儷粗黑"/>
                  </a:rPr>
                  <a:t>e-custome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68880" y="4615920"/>
                <a:ext cx="659700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華康儷粗黑"/>
                    <a:ea typeface="華康儷粗黑"/>
                  </a:rPr>
                  <a:t>+SCM+ERP+OFFICE+CAD+Note/EXCHANGE+e-PROCUREM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444600"/>
            <a:ext cx="7759800" cy="676080"/>
          </a:xfrm>
          <a:prstGeom prst="rect">
            <a:avLst/>
          </a:prstGeom>
          <a:solidFill>
            <a:srgbClr val="f5f5f5"/>
          </a:solidFill>
          <a:ln w="0">
            <a:noFill/>
          </a:ln>
          <a:effectLst>
            <a:outerShdw dist="107932" dir="2700000" blurRad="0" rotWithShape="0">
              <a:srgbClr val="4d4d4d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ba0023"/>
                </a:solidFill>
                <a:latin typeface="標楷體"/>
              </a:rPr>
              <a:t>網際網路及電子商務的商機</a:t>
            </a:r>
            <a:endParaRPr b="1" lang="en-US" sz="3600" spc="-1" strike="noStrike">
              <a:solidFill>
                <a:srgbClr val="ff0033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>
        <p:strips dir="rd"/>
        <p:sndAc>
          <p:stSnd>
            <p:snd r:embed="rId7" name="CAMERA.WAV"/>
          </p:stSnd>
        </p:sndAc>
      </p:transition>
    </mc:Choice>
    <mc:Fallback>
      <p:transition spd="slow">
        <p:strips dir="rd"/>
        <p:sndAc>
          <p:stSnd>
            <p:snd r:embed="rId7" name="CAMERA.WAV"/>
          </p:stSnd>
        </p:sndAc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28ec6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22280" y="1562040"/>
            <a:ext cx="8277120" cy="503892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43570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0880" indent="-38088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91040" y="1725480"/>
            <a:ext cx="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5280" y="1960560"/>
            <a:ext cx="1113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30920" y="1960560"/>
            <a:ext cx="1468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公　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07400" y="1960560"/>
            <a:ext cx="2605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投　資　說　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7200" y="1866960"/>
            <a:ext cx="2988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7200" y="1866960"/>
            <a:ext cx="2988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7200" y="1866960"/>
            <a:ext cx="1440" cy="316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7200" y="1866960"/>
            <a:ext cx="2988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7200" y="1866960"/>
            <a:ext cx="2988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200" y="1866960"/>
            <a:ext cx="1440" cy="316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7080" y="1866960"/>
            <a:ext cx="54936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7080" y="1866960"/>
            <a:ext cx="54936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06440" y="1866960"/>
            <a:ext cx="3024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06440" y="1866960"/>
            <a:ext cx="3024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06440" y="1866960"/>
            <a:ext cx="1800" cy="316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36680" y="1866960"/>
            <a:ext cx="129240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36680" y="1866960"/>
            <a:ext cx="12924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29080" y="1866960"/>
            <a:ext cx="2844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29080" y="1866960"/>
            <a:ext cx="2844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29080" y="1866960"/>
            <a:ext cx="1440" cy="316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57520" y="1866960"/>
            <a:ext cx="573552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57520" y="1866960"/>
            <a:ext cx="573552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93040" y="1866960"/>
            <a:ext cx="3024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93040" y="1866960"/>
            <a:ext cx="3024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93040" y="1866960"/>
            <a:ext cx="1800" cy="316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93040" y="1866960"/>
            <a:ext cx="3024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93040" y="1866960"/>
            <a:ext cx="3024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93040" y="1866960"/>
            <a:ext cx="1800" cy="316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7200" y="1898640"/>
            <a:ext cx="29880" cy="558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7200" y="1898640"/>
            <a:ext cx="1440" cy="5587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06440" y="1898640"/>
            <a:ext cx="30240" cy="558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06440" y="1898640"/>
            <a:ext cx="1800" cy="5587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29080" y="1898640"/>
            <a:ext cx="28440" cy="558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29080" y="1898640"/>
            <a:ext cx="1440" cy="5587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93040" y="1898640"/>
            <a:ext cx="30240" cy="558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93040" y="1898640"/>
            <a:ext cx="1800" cy="5587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6520" y="2550960"/>
            <a:ext cx="90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86840" y="2550960"/>
            <a:ext cx="1753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In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31440" y="2550960"/>
            <a:ext cx="3033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大手筆投資網際網路公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27200" y="2467080"/>
            <a:ext cx="2988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7200" y="2467080"/>
            <a:ext cx="2988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7200" y="2467080"/>
            <a:ext cx="1440" cy="316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7080" y="2467080"/>
            <a:ext cx="54936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7080" y="2467080"/>
            <a:ext cx="54936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06440" y="2467080"/>
            <a:ext cx="3024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06440" y="2467080"/>
            <a:ext cx="3024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06440" y="2467080"/>
            <a:ext cx="1800" cy="316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36680" y="2467080"/>
            <a:ext cx="129240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36680" y="2467080"/>
            <a:ext cx="12924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29080" y="2467080"/>
            <a:ext cx="2844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29080" y="2467080"/>
            <a:ext cx="2844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29080" y="2467080"/>
            <a:ext cx="1440" cy="316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57520" y="2467080"/>
            <a:ext cx="573552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57520" y="2467080"/>
            <a:ext cx="573552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93040" y="2467080"/>
            <a:ext cx="3024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93040" y="2467080"/>
            <a:ext cx="3024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93040" y="2467080"/>
            <a:ext cx="1800" cy="316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7200" y="2498760"/>
            <a:ext cx="29880" cy="5778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7200" y="2498760"/>
            <a:ext cx="1440" cy="577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06440" y="2498760"/>
            <a:ext cx="30240" cy="5778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06440" y="2498760"/>
            <a:ext cx="1800" cy="577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29080" y="2498760"/>
            <a:ext cx="28440" cy="5778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29080" y="2498760"/>
            <a:ext cx="1440" cy="577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93040" y="2498760"/>
            <a:ext cx="30240" cy="5778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93040" y="2498760"/>
            <a:ext cx="1800" cy="577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6520" y="3170160"/>
            <a:ext cx="90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27680" y="3151080"/>
            <a:ext cx="1113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宏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45720" y="3170160"/>
            <a:ext cx="38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成立二大次團體投資二億美金在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03600" y="3666960"/>
            <a:ext cx="1326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子商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76160" y="3666960"/>
            <a:ext cx="2820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，二億美金在網際網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7200" y="3076560"/>
            <a:ext cx="2988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7200" y="3076560"/>
            <a:ext cx="2988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7200" y="3076560"/>
            <a:ext cx="1440" cy="316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7080" y="3076560"/>
            <a:ext cx="54936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57080" y="3076560"/>
            <a:ext cx="54936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06440" y="3076560"/>
            <a:ext cx="3024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06440" y="3076560"/>
            <a:ext cx="3024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6440" y="3076560"/>
            <a:ext cx="1800" cy="316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36680" y="3076560"/>
            <a:ext cx="129240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36680" y="3076560"/>
            <a:ext cx="12924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29080" y="3076560"/>
            <a:ext cx="2844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29080" y="3076560"/>
            <a:ext cx="2844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29080" y="3076560"/>
            <a:ext cx="1440" cy="316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57520" y="3076560"/>
            <a:ext cx="573552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57520" y="3076560"/>
            <a:ext cx="573552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93040" y="3076560"/>
            <a:ext cx="3024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93040" y="3076560"/>
            <a:ext cx="3024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93040" y="3076560"/>
            <a:ext cx="1800" cy="316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7200" y="3108240"/>
            <a:ext cx="29880" cy="1001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7200" y="3108240"/>
            <a:ext cx="1440" cy="1001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06440" y="3108240"/>
            <a:ext cx="30240" cy="1001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06440" y="3108240"/>
            <a:ext cx="1800" cy="1001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29080" y="3108240"/>
            <a:ext cx="28440" cy="1001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29080" y="3108240"/>
            <a:ext cx="1440" cy="1001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93040" y="3108240"/>
            <a:ext cx="30240" cy="1001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93040" y="3108240"/>
            <a:ext cx="1800" cy="1001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6520" y="4203720"/>
            <a:ext cx="90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03920" y="4203720"/>
            <a:ext cx="1113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精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24760" y="4203720"/>
            <a:ext cx="1113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投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09120" y="4203720"/>
            <a:ext cx="90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62960" y="4203720"/>
            <a:ext cx="1967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億在電子商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23800" y="4203720"/>
            <a:ext cx="90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01720" y="4203720"/>
            <a:ext cx="90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06880" y="4203720"/>
            <a:ext cx="1540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億在網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7200" y="4110120"/>
            <a:ext cx="2988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7200" y="4110120"/>
            <a:ext cx="29880" cy="32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27200" y="4110120"/>
            <a:ext cx="1440" cy="316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7080" y="4110120"/>
            <a:ext cx="54936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7080" y="4110120"/>
            <a:ext cx="549360" cy="32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06440" y="4110120"/>
            <a:ext cx="3024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06440" y="4110120"/>
            <a:ext cx="30240" cy="32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06440" y="4110120"/>
            <a:ext cx="1800" cy="316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36680" y="4110120"/>
            <a:ext cx="129240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36680" y="4110120"/>
            <a:ext cx="1292400" cy="32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29080" y="4110120"/>
            <a:ext cx="2844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29080" y="4110120"/>
            <a:ext cx="28440" cy="32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29080" y="4110120"/>
            <a:ext cx="1440" cy="316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57520" y="4110120"/>
            <a:ext cx="573552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57520" y="4110120"/>
            <a:ext cx="5735520" cy="32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93040" y="4110120"/>
            <a:ext cx="3024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93040" y="4110120"/>
            <a:ext cx="30240" cy="32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93040" y="4110120"/>
            <a:ext cx="1800" cy="316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7200" y="4141800"/>
            <a:ext cx="29880" cy="558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7200" y="4141800"/>
            <a:ext cx="1440" cy="5587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06440" y="4141800"/>
            <a:ext cx="30240" cy="558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06440" y="4141800"/>
            <a:ext cx="1800" cy="5587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29080" y="4141800"/>
            <a:ext cx="28440" cy="558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29080" y="4141800"/>
            <a:ext cx="1440" cy="5587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93040" y="4141800"/>
            <a:ext cx="30240" cy="558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393040" y="4141800"/>
            <a:ext cx="1800" cy="5587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6520" y="4794120"/>
            <a:ext cx="90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352880" y="4794120"/>
            <a:ext cx="1326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第三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82800" y="4794120"/>
            <a:ext cx="1540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預計投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48920" y="4794120"/>
            <a:ext cx="90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12480" y="4794120"/>
            <a:ext cx="1967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億在電子商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7200" y="4700520"/>
            <a:ext cx="2988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7200" y="4700520"/>
            <a:ext cx="2988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7200" y="4700520"/>
            <a:ext cx="1440" cy="316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7080" y="4700520"/>
            <a:ext cx="54936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7080" y="4700520"/>
            <a:ext cx="54936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06440" y="4700520"/>
            <a:ext cx="3024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06440" y="4700520"/>
            <a:ext cx="3024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06440" y="4700520"/>
            <a:ext cx="1800" cy="316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36680" y="4700520"/>
            <a:ext cx="129240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36680" y="4700520"/>
            <a:ext cx="12924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29080" y="4700520"/>
            <a:ext cx="2844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29080" y="4700520"/>
            <a:ext cx="2844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29080" y="4700520"/>
            <a:ext cx="1440" cy="316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57520" y="4700520"/>
            <a:ext cx="573552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657520" y="4700520"/>
            <a:ext cx="573552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393040" y="4700520"/>
            <a:ext cx="3024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93040" y="4700520"/>
            <a:ext cx="3024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93040" y="4700520"/>
            <a:ext cx="1800" cy="316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27200" y="4732200"/>
            <a:ext cx="29880" cy="5781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27200" y="4732200"/>
            <a:ext cx="1440" cy="57816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06440" y="4732200"/>
            <a:ext cx="30240" cy="5781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06440" y="4732200"/>
            <a:ext cx="1800" cy="57816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29080" y="4732200"/>
            <a:ext cx="28440" cy="5781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29080" y="4732200"/>
            <a:ext cx="1440" cy="57816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393040" y="4732200"/>
            <a:ext cx="30240" cy="5781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393040" y="4732200"/>
            <a:ext cx="1800" cy="57816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6520" y="5403960"/>
            <a:ext cx="90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89520" y="5403960"/>
            <a:ext cx="1113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普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82800" y="5403960"/>
            <a:ext cx="1540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預計投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48920" y="5403960"/>
            <a:ext cx="90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889880" y="5403960"/>
            <a:ext cx="2180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億在電子商務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82800" y="5900760"/>
            <a:ext cx="1540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網際網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7200" y="5310360"/>
            <a:ext cx="2988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7200" y="5310360"/>
            <a:ext cx="2988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7200" y="5310360"/>
            <a:ext cx="1440" cy="316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57080" y="5310360"/>
            <a:ext cx="54936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7080" y="5310360"/>
            <a:ext cx="54936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06440" y="5310360"/>
            <a:ext cx="3024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06440" y="5310360"/>
            <a:ext cx="3024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06440" y="5310360"/>
            <a:ext cx="1800" cy="316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36680" y="5310360"/>
            <a:ext cx="129240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36680" y="5310360"/>
            <a:ext cx="12924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29080" y="5310360"/>
            <a:ext cx="2844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29080" y="5310360"/>
            <a:ext cx="2844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29080" y="5310360"/>
            <a:ext cx="1440" cy="316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57520" y="5310360"/>
            <a:ext cx="573552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57520" y="5310360"/>
            <a:ext cx="573552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393040" y="5310360"/>
            <a:ext cx="3024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93040" y="5310360"/>
            <a:ext cx="3024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93040" y="5310360"/>
            <a:ext cx="1800" cy="316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7200" y="5342040"/>
            <a:ext cx="29880" cy="1001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27200" y="5342040"/>
            <a:ext cx="1440" cy="1001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7200" y="6343560"/>
            <a:ext cx="2988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7200" y="6343560"/>
            <a:ext cx="29880" cy="32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27200" y="6343560"/>
            <a:ext cx="1440" cy="316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27200" y="6343560"/>
            <a:ext cx="2988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27200" y="6343560"/>
            <a:ext cx="29880" cy="32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7200" y="6343560"/>
            <a:ext cx="1440" cy="316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57080" y="6343560"/>
            <a:ext cx="54936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57080" y="6343560"/>
            <a:ext cx="549360" cy="32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06440" y="5342040"/>
            <a:ext cx="30240" cy="1001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06440" y="5342040"/>
            <a:ext cx="1800" cy="1001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06440" y="6343560"/>
            <a:ext cx="3024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06440" y="6343560"/>
            <a:ext cx="30240" cy="32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06440" y="6343560"/>
            <a:ext cx="1800" cy="316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336680" y="6343560"/>
            <a:ext cx="129240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36680" y="6343560"/>
            <a:ext cx="1292400" cy="32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29080" y="5342040"/>
            <a:ext cx="28440" cy="1001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29080" y="5342040"/>
            <a:ext cx="1440" cy="1001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29080" y="6343560"/>
            <a:ext cx="2844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29080" y="6343560"/>
            <a:ext cx="28440" cy="32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29080" y="6343560"/>
            <a:ext cx="1440" cy="316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657520" y="6343560"/>
            <a:ext cx="573552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657520" y="6343560"/>
            <a:ext cx="5735520" cy="32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93040" y="5342040"/>
            <a:ext cx="30240" cy="1001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93040" y="5342040"/>
            <a:ext cx="1800" cy="1001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93040" y="6343560"/>
            <a:ext cx="3024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93040" y="6343560"/>
            <a:ext cx="30240" cy="32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393040" y="6343560"/>
            <a:ext cx="1800" cy="316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93040" y="6343560"/>
            <a:ext cx="3024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93040" y="6343560"/>
            <a:ext cx="30240" cy="32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393040" y="6343560"/>
            <a:ext cx="1800" cy="316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444600"/>
            <a:ext cx="7759800" cy="676080"/>
          </a:xfrm>
          <a:prstGeom prst="rect">
            <a:avLst/>
          </a:prstGeom>
          <a:solidFill>
            <a:srgbClr val="f5f5f5"/>
          </a:solidFill>
          <a:ln w="0">
            <a:noFill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ba0023"/>
                </a:solidFill>
                <a:latin typeface="標楷體"/>
                <a:ea typeface="標楷體"/>
              </a:rPr>
              <a:t>網際網路及電子商務的投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  <p:sndAc>
          <p:stSnd>
            <p:snd r:embed="rId1" name="CAMERA.WAV"/>
          </p:stSnd>
        </p:sndAc>
      </p:transition>
    </mc:Choice>
    <mc:Fallback>
      <p:transition spd="slow">
        <p:strips dir="rd"/>
        <p:sndAc>
          <p:stSnd>
            <p:snd r:embed="rId1" name="CAMERA.WAV"/>
          </p:stSnd>
        </p:sndAc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28ec6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444600"/>
            <a:ext cx="7759800" cy="676080"/>
          </a:xfrm>
          <a:prstGeom prst="rect">
            <a:avLst/>
          </a:prstGeom>
          <a:solidFill>
            <a:srgbClr val="f5f5f5"/>
          </a:solidFill>
          <a:ln w="0">
            <a:noFill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ba0023"/>
                </a:solidFill>
                <a:latin typeface="標楷體"/>
                <a:ea typeface="標楷體"/>
              </a:rPr>
              <a:t>為什麼要策略聯盟</a:t>
            </a:r>
            <a:r>
              <a:rPr b="1" lang="zh-TW" sz="3600" spc="-1" strike="noStrike">
                <a:solidFill>
                  <a:srgbClr val="ba0023"/>
                </a:solidFill>
                <a:latin typeface="標楷體"/>
                <a:ea typeface="標楷體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8000" y="1825560"/>
            <a:ext cx="470196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cc66"/>
                </a:solidFill>
                <a:latin typeface="Arial Black"/>
                <a:ea typeface="華康中黑體"/>
              </a:rPr>
              <a:t>競爭不如合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cc66"/>
                </a:solidFill>
                <a:latin typeface="Arial Black"/>
                <a:ea typeface="華康中黑體"/>
              </a:rPr>
              <a:t>聯絡次要敵人</a:t>
            </a:r>
            <a:r>
              <a:rPr b="1" lang="zh-TW" sz="4000" spc="-1" strike="noStrike">
                <a:solidFill>
                  <a:srgbClr val="ffcc66"/>
                </a:solidFill>
                <a:latin typeface="Arial Black"/>
                <a:ea typeface="華康中黑體"/>
              </a:rPr>
              <a:t>, </a:t>
            </a:r>
            <a:r>
              <a:rPr b="1" lang="zh-TW" sz="4000" spc="-1" strike="noStrike">
                <a:solidFill>
                  <a:srgbClr val="ffcc66"/>
                </a:solidFill>
                <a:latin typeface="Arial Black"/>
                <a:ea typeface="華康中黑體"/>
              </a:rPr>
              <a:t>打擊主要敵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cc66"/>
                </a:solidFill>
                <a:latin typeface="Arial Black"/>
                <a:ea typeface="華康中黑體"/>
              </a:rPr>
              <a:t>有福同享、有難同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cc66"/>
                </a:solidFill>
                <a:latin typeface="Arial Black"/>
                <a:ea typeface="華康中黑體"/>
              </a:rPr>
              <a:t>減少資源重複投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cc66"/>
                </a:solidFill>
                <a:latin typeface="Arial Black"/>
                <a:ea typeface="華康中黑體"/>
              </a:rPr>
              <a:t>互惠、互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cc66"/>
                </a:solidFill>
                <a:latin typeface="Arial Black"/>
                <a:ea typeface="華康中黑體"/>
              </a:rPr>
              <a:t>交互持股、合組公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  <p:sndAc>
          <p:stSnd>
            <p:snd r:embed="rId1" name="CAMERA.WAV"/>
          </p:stSnd>
        </p:sndAc>
      </p:transition>
    </mc:Choice>
    <mc:Fallback>
      <p:transition spd="slow">
        <p:strips dir="rd"/>
        <p:sndAc>
          <p:stSnd>
            <p:snd r:embed="rId1" name="CAMERA.WAV"/>
          </p:stSnd>
        </p:sndAc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28ec6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444600"/>
            <a:ext cx="7759800" cy="676080"/>
          </a:xfrm>
          <a:prstGeom prst="rect">
            <a:avLst/>
          </a:prstGeom>
          <a:solidFill>
            <a:srgbClr val="f5f5f5"/>
          </a:solidFill>
          <a:ln w="0">
            <a:noFill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ba0023"/>
                </a:solidFill>
                <a:latin typeface="標楷體"/>
                <a:ea typeface="標楷體"/>
              </a:rPr>
              <a:t>策略聯盟的各種形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670120" y="1787760"/>
            <a:ext cx="293184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cc66"/>
                </a:solidFill>
                <a:latin typeface="Arial Black"/>
                <a:ea typeface="華康中黑體"/>
              </a:rPr>
              <a:t>收購與合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cc66"/>
                </a:solidFill>
                <a:latin typeface="Arial Black"/>
                <a:ea typeface="華康中黑體"/>
              </a:rPr>
              <a:t>共同所有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cc66"/>
                </a:solidFill>
                <a:latin typeface="Arial Black"/>
                <a:ea typeface="華康中黑體"/>
              </a:rPr>
              <a:t>正式合作投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cc66"/>
                </a:solidFill>
                <a:latin typeface="Arial Black"/>
                <a:ea typeface="華康中黑體"/>
              </a:rPr>
              <a:t>非正式合作投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cc66"/>
                </a:solidFill>
                <a:latin typeface="Arial Black"/>
                <a:ea typeface="華康中黑體"/>
              </a:rPr>
              <a:t>   </a:t>
            </a:r>
            <a:r>
              <a:rPr b="1" lang="zh-TW" sz="4000" spc="-1" strike="noStrike">
                <a:solidFill>
                  <a:srgbClr val="ffcc66"/>
                </a:solidFill>
                <a:latin typeface="Arial Black"/>
                <a:ea typeface="華康中黑體"/>
              </a:rPr>
              <a:t>--</a:t>
            </a:r>
            <a:r>
              <a:rPr b="1" lang="zh-TW" sz="4000" spc="-1" strike="noStrike">
                <a:solidFill>
                  <a:srgbClr val="ffcc66"/>
                </a:solidFill>
                <a:latin typeface="Arial Black"/>
                <a:ea typeface="華康中黑體"/>
              </a:rPr>
              <a:t>技術分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cc66"/>
                </a:solidFill>
                <a:latin typeface="Arial Black"/>
                <a:ea typeface="華康中黑體"/>
              </a:rPr>
              <a:t>   </a:t>
            </a:r>
            <a:r>
              <a:rPr b="1" lang="zh-TW" sz="4000" spc="-1" strike="noStrike">
                <a:solidFill>
                  <a:srgbClr val="ffcc66"/>
                </a:solidFill>
                <a:latin typeface="Arial Black"/>
                <a:ea typeface="華康中黑體"/>
              </a:rPr>
              <a:t>--</a:t>
            </a:r>
            <a:r>
              <a:rPr b="1" lang="zh-TW" sz="4000" spc="-1" strike="noStrike">
                <a:solidFill>
                  <a:srgbClr val="ffcc66"/>
                </a:solidFill>
                <a:latin typeface="Arial Black"/>
                <a:ea typeface="華康中黑體"/>
              </a:rPr>
              <a:t>合作開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  <p:sndAc>
          <p:stSnd>
            <p:snd r:embed="rId1" name="CAMERA.WAV"/>
          </p:stSnd>
        </p:sndAc>
      </p:transition>
    </mc:Choice>
    <mc:Fallback>
      <p:transition spd="slow">
        <p:strips dir="rd"/>
        <p:sndAc>
          <p:stSnd>
            <p:snd r:embed="rId1" name="CAMERA.WAV"/>
          </p:stSnd>
        </p:sndAc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8ec6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444600"/>
            <a:ext cx="7759800" cy="676080"/>
          </a:xfrm>
          <a:prstGeom prst="rect">
            <a:avLst/>
          </a:prstGeom>
          <a:solidFill>
            <a:srgbClr val="f5f5f5"/>
          </a:solidFill>
          <a:ln w="0">
            <a:noFill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ba0023"/>
                </a:solidFill>
                <a:latin typeface="標楷體"/>
                <a:ea typeface="標楷體"/>
              </a:rPr>
              <a:t>投資新事業</a:t>
            </a:r>
            <a:r>
              <a:rPr b="1" lang="zh-TW" sz="3600" spc="-1" strike="noStrike">
                <a:solidFill>
                  <a:srgbClr val="ba0023"/>
                </a:solidFill>
                <a:latin typeface="華康中黑體"/>
                <a:ea typeface="華康中黑體"/>
              </a:rPr>
              <a:t>10</a:t>
            </a:r>
            <a:r>
              <a:rPr b="1" lang="zh-TW" sz="3600" spc="-1" strike="noStrike">
                <a:solidFill>
                  <a:srgbClr val="ba0023"/>
                </a:solidFill>
                <a:latin typeface="標楷體"/>
                <a:ea typeface="標楷體"/>
              </a:rPr>
              <a:t>項決策要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15640" y="1401480"/>
            <a:ext cx="3084120" cy="51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66"/>
                </a:solidFill>
                <a:latin typeface="Arial Black"/>
                <a:ea typeface="華康中黑體"/>
              </a:rPr>
              <a:t>投資成長性的產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 Black"/>
                <a:ea typeface="華康中黑體"/>
              </a:rPr>
              <a:t>選擇具有競爭優勢的產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66"/>
                </a:solidFill>
                <a:latin typeface="Arial Black"/>
                <a:ea typeface="華康中黑體"/>
              </a:rPr>
              <a:t>投資在經營環境良好的地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 Black"/>
                <a:ea typeface="華康中黑體"/>
              </a:rPr>
              <a:t>投資產業中最具特色的公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66"/>
                </a:solidFill>
                <a:latin typeface="Arial Black"/>
                <a:ea typeface="華康中黑體"/>
              </a:rPr>
              <a:t>投資具進入障礙的產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 Black"/>
                <a:ea typeface="華康中黑體"/>
              </a:rPr>
              <a:t>投資具專業能力的公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66"/>
                </a:solidFill>
                <a:latin typeface="Arial Black"/>
                <a:ea typeface="華康中黑體"/>
              </a:rPr>
              <a:t>投資具量產能力的產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 Black"/>
                <a:ea typeface="華康中黑體"/>
              </a:rPr>
              <a:t>投資技術領先的公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66"/>
                </a:solidFill>
                <a:latin typeface="Arial Black"/>
                <a:ea typeface="華康中黑體"/>
              </a:rPr>
              <a:t>投資經理人具誠信的公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 Black"/>
                <a:ea typeface="華康中黑體"/>
              </a:rPr>
              <a:t>投資經營專精的公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  <p:sndAc>
          <p:stSnd>
            <p:snd r:embed="rId1" name="CAMERA.WAV"/>
          </p:stSnd>
        </p:sndAc>
      </p:transition>
    </mc:Choice>
    <mc:Fallback>
      <p:transition spd="slow">
        <p:strips dir="rd"/>
        <p:sndAc>
          <p:stSnd>
            <p:snd r:embed="rId1" name="CAMERA.WAV"/>
          </p:stSnd>
        </p:sndAc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普揚資訊</dc:creator>
  <dc:description/>
  <dc:language>en-US</dc:language>
  <cp:lastModifiedBy>Zero</cp:lastModifiedBy>
  <cp:lastPrinted>2000-02-17T03:51:19Z</cp:lastPrinted>
  <dcterms:modified xsi:type="dcterms:W3CDTF">2002-12-04T08:14:47Z</dcterms:modified>
  <cp:revision>696</cp:revision>
  <dc:subject/>
  <dc:title>沒有投影片標題</dc:title>
</cp:coreProperties>
</file>